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E185-130E-4A45-B184-E7379AADC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322-937E-4A30-817D-3C8794898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F824-0B0A-4FEB-8C7E-017423C70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BB08-156D-4D80-8B12-E0C8F47C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2466E-BEAE-48AA-A01C-D13AA0CF9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9B15C-50CC-4E1B-AF1A-ED0B7BCE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F7F9-87FC-4985-AEDC-BA049BBCF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8A2F-8785-4ECD-849F-5F120D1F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733E-578A-46D5-AAED-68AE4EC6F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9BBF-24ED-4F62-BFC6-CBAB597C5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BAC2-63FB-4BEF-A5F2-162F2A4F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3AE-0E5A-4176-BB8C-60A63A6F6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5F3D-F6D7-4A52-AA2A-523228D37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79BE-E79F-4753-B062-42C4AB6E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10734-BFD9-49CC-A3EB-263F9E38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697B-9EEE-483E-A21C-B703D996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CA6E1-22DC-4056-8B28-D8EC95E8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64C-50F5-4FCE-AADA-AF110D233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D550-7F0D-4ABB-BE7A-8E71F672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0129-0B2C-44B0-BA94-6AEFE0BD9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9C8-12CF-41B1-A6F0-13A20F97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B79E-A871-4C2E-8AEA-D750BE417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764A-31C1-4CAB-B6A9-B8A428C0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CB22-08FD-4245-BC3F-77B47C5C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0A43-F954-42B6-9686-E4BF2010859C}" type="slidenum">
              <a:rPr b="0" lang="hu-H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69F0D-3C57-4776-AAA6-FEA697DDEB84}" type="slidenum">
              <a:rPr b="0" lang="hu-H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5/51/Cyclodextrin.svg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4000" y="2133720"/>
            <a:ext cx="2124000" cy="1638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692360" y="765000"/>
            <a:ext cx="2286000" cy="15242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355640" y="549360"/>
            <a:ext cx="450144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402000"/>
                </a:solidFill>
                <a:latin typeface="Times New Roman"/>
              </a:rPr>
              <a:t>Semmelweis Egyete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402000"/>
                </a:solidFill>
                <a:latin typeface="Times New Roman"/>
              </a:rPr>
              <a:t>Gyógyszerészeti Intéze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Fizikai minősítő vizsgálatok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402000"/>
                </a:solidFill>
                <a:latin typeface="Times New Roman"/>
              </a:rPr>
              <a:t>l</a:t>
            </a: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aboratórium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1960" y="3835440"/>
            <a:ext cx="2896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I.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Folyékony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gyógyszerformák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402000"/>
                </a:solidFill>
                <a:latin typeface="Times New Roman"/>
              </a:rPr>
              <a:t>vizsgálata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26920" y="476280"/>
            <a:ext cx="7979040" cy="623772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3" marL="137160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cc0000"/>
                </a:solidFill>
                <a:latin typeface="Times New Roman"/>
              </a:rPr>
              <a:t>A homogén folyadék fázisú gyógyszerkészítmények preformulálási vizsgálata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402000"/>
                </a:solidFill>
                <a:uFillTx/>
                <a:latin typeface="Times New Roman"/>
              </a:rPr>
              <a:t>l. A hatóanyag jellemző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1.1. </a:t>
            </a:r>
            <a:r>
              <a:rPr b="0" i="1" lang="hu-HU" sz="2000" spc="-1" strike="noStrike">
                <a:solidFill>
                  <a:srgbClr val="402000"/>
                </a:solidFill>
                <a:latin typeface="Times New Roman"/>
              </a:rPr>
              <a:t>Szín, szag, íz, állomán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1.2. </a:t>
            </a:r>
            <a:r>
              <a:rPr b="0" i="1" lang="hu-HU" sz="2000" spc="-1" strike="noStrike">
                <a:solidFill>
                  <a:srgbClr val="402000"/>
                </a:solidFill>
                <a:latin typeface="Times New Roman"/>
              </a:rPr>
              <a:t>Oldékonyság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1.2.1. Hidrofil oldószerekben (pl. víz, etanol, izopropanol, 1,2-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propilénglikol, glicerin, PEG- 300, aceton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1.2.2. Az oldékonyság pH-függése (pH = 3-7) vizes puffer-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rendszerekbe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1.2.3. Lipofil oldószerekben (pl. kloroform, metilén-klorid, 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növényi olajok, izopropil-mirisztát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1.2.4. Oldékonyság mesterséges gyomor- és bélnedvben, 37 °C-o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1.3. </a:t>
            </a:r>
            <a:r>
              <a:rPr b="0" i="1" lang="hu-HU" sz="2000" spc="-1" strike="noStrike">
                <a:solidFill>
                  <a:srgbClr val="402000"/>
                </a:solidFill>
                <a:latin typeface="Times New Roman"/>
              </a:rPr>
              <a:t>Olvadáspont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1.4. </a:t>
            </a:r>
            <a:r>
              <a:rPr b="0" i="1" lang="hu-HU" sz="2000" spc="-1" strike="noStrike">
                <a:solidFill>
                  <a:srgbClr val="402000"/>
                </a:solidFill>
                <a:latin typeface="Times New Roman"/>
              </a:rPr>
              <a:t>Analitikai tisztasági adato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1.5. </a:t>
            </a:r>
            <a:r>
              <a:rPr b="0" i="1" lang="hu-HU" sz="2000" spc="-1" strike="noStrike">
                <a:solidFill>
                  <a:srgbClr val="402000"/>
                </a:solidFill>
                <a:latin typeface="Times New Roman"/>
              </a:rPr>
              <a:t>A farmakon pH-, ill. pK-értéke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1.6. </a:t>
            </a:r>
            <a:r>
              <a:rPr b="0" i="1" lang="hu-HU" sz="2000" spc="-1" strike="noStrike">
                <a:solidFill>
                  <a:srgbClr val="402000"/>
                </a:solidFill>
                <a:latin typeface="Times New Roman"/>
              </a:rPr>
              <a:t>Tájékoztató stabilitás vizsgálato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11120" y="1720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92360" y="1989000"/>
            <a:ext cx="55864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402000"/>
                </a:solidFill>
                <a:uFillTx/>
                <a:latin typeface="Times New Roman"/>
              </a:rPr>
              <a:t>3. A gyógyszerkészítmény jellemző adata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2.1. Szín, szag, íz, állomány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2.2. pH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2.3. Sűrűsé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2.4. Viszkozitá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2.5. Felületi feszültsé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2.6. Törésmutató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2.7. Szárazanyag-tartalom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2.8. Izotónia (ha szükséges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hu-HU" sz="2000" spc="-1" strike="noStrike" u="sng">
                <a:solidFill>
                  <a:srgbClr val="402000"/>
                </a:solidFill>
                <a:uFillTx/>
                <a:latin typeface="Times New Roman"/>
              </a:rPr>
              <a:t>4. A gyógyszerkészítmény stabilitási 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hu-HU" sz="2000" spc="-1" strike="noStrike" u="sng">
                <a:solidFill>
                  <a:srgbClr val="402000"/>
                </a:solidFill>
                <a:uFillTx/>
                <a:latin typeface="Times New Roman"/>
              </a:rPr>
              <a:t>vizsgálata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103480" y="431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84360" y="765000"/>
            <a:ext cx="489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hu-HU" sz="2000" spc="-1" strike="noStrike" u="sng">
                <a:solidFill>
                  <a:srgbClr val="402000"/>
                </a:solidFill>
                <a:uFillTx/>
                <a:latin typeface="Times New Roman"/>
              </a:rPr>
              <a:t>2. A gyógyszerkészítmény kompatibilitási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 u="sng">
                <a:solidFill>
                  <a:srgbClr val="402000"/>
                </a:solidFill>
                <a:uFillTx/>
                <a:latin typeface="Times New Roman"/>
              </a:rPr>
              <a:t>     </a:t>
            </a:r>
            <a:r>
              <a:rPr b="1" lang="hu-HU" sz="2000" spc="-1" strike="noStrike" u="sng">
                <a:solidFill>
                  <a:srgbClr val="402000"/>
                </a:solidFill>
                <a:uFillTx/>
                <a:latin typeface="Times New Roman"/>
              </a:rPr>
              <a:t>vizsgálata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131280" y="692280"/>
            <a:ext cx="32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cc0000"/>
                </a:solidFill>
                <a:latin typeface="Times New Roman"/>
              </a:rPr>
              <a:t>Oldatok és sajátosságai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42920" y="177336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Azokat a folyékony elegyeket, amelyekben az egyik alkotórész sokkal nagyobb mennyiségben van jelen, mint a másik, 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oldatoknak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 nevezzük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042920" y="2637000"/>
            <a:ext cx="7696440" cy="3339360"/>
            <a:chOff x="1042920" y="2637000"/>
            <a:chExt cx="7696440" cy="3339360"/>
          </a:xfrm>
        </p:grpSpPr>
        <p:sp>
          <p:nvSpPr>
            <p:cNvPr id="138" name=""/>
            <p:cNvSpPr/>
            <p:nvPr/>
          </p:nvSpPr>
          <p:spPr>
            <a:xfrm>
              <a:off x="1042920" y="3141720"/>
              <a:ext cx="754380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402000"/>
                  </a:solidFill>
                  <a:latin typeface="Times New Roman"/>
                </a:rPr>
                <a:t>Additív tulajdonság</a:t>
              </a:r>
              <a:endParaRPr b="0" lang="en-US" sz="2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402000"/>
                  </a:solidFill>
                  <a:latin typeface="Times New Roman"/>
                </a:rPr>
                <a:t>Azok a sajátosságok, amelyek a keverési arány figyelembe vételével összegzéssel kiszámíthatók (pl. mólkoncentráció). 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042920" y="4724280"/>
              <a:ext cx="769644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200" spc="-1" strike="noStrike">
                  <a:solidFill>
                    <a:srgbClr val="402000"/>
                  </a:solidFill>
                  <a:latin typeface="Times New Roman"/>
                </a:rPr>
                <a:t>Kolligatív tulajdonság</a:t>
              </a:r>
              <a:endParaRPr b="0" lang="en-US" sz="2200" spc="-1" strike="noStrike">
                <a:solidFill>
                  <a:srgbClr val="402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402000"/>
                  </a:solidFill>
                  <a:latin typeface="Times New Roman"/>
                </a:rPr>
                <a:t>Azok a sajátosságok, amelyek csak az adott térfogatban jelen lévő molekulák (mólok) számától függnek, de függetlenek az anyagi minőségtől (pl. fagyáspont-csökkenés, forráspont-emelkedés, gőznyomás, ozmózisnyomás).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852360" y="2637000"/>
              <a:ext cx="182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2400" spc="-1" strike="noStrike">
                  <a:solidFill>
                    <a:srgbClr val="cc0000"/>
                  </a:solidFill>
                  <a:latin typeface="Times New Roman"/>
                </a:rPr>
                <a:t>Sajátosságok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8200" y="2060640"/>
            <a:ext cx="7750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402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az oldószer polaritá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402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az oldandó molekula poláris vagy apoláris karakter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402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az oldáshő nagysága és elője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402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a hőmérsékle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402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a nyomá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402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a pH-érté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402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egyéb ionok jelenlét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402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a közeg permittivitá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402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segédanyago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7160" y="838080"/>
            <a:ext cx="51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cc0000"/>
                </a:solidFill>
                <a:latin typeface="Times New Roman"/>
              </a:rPr>
              <a:t>Az oldékonyságot befolyásoló tényezők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"/>
          <p:cNvGrpSpPr/>
          <p:nvPr/>
        </p:nvGrpSpPr>
        <p:grpSpPr>
          <a:xfrm>
            <a:off x="933480" y="1484280"/>
            <a:ext cx="7115760" cy="857520"/>
            <a:chOff x="933480" y="1484280"/>
            <a:chExt cx="7115760" cy="857520"/>
          </a:xfrm>
        </p:grpSpPr>
        <p:sp>
          <p:nvSpPr>
            <p:cNvPr id="144" name=""/>
            <p:cNvSpPr/>
            <p:nvPr/>
          </p:nvSpPr>
          <p:spPr>
            <a:xfrm>
              <a:off x="933480" y="1484280"/>
              <a:ext cx="7084440" cy="39888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402000"/>
                  </a:solidFill>
                  <a:latin typeface="Times New Roman"/>
                </a:rPr>
                <a:t>       </a:t>
              </a:r>
              <a:r>
                <a:rPr b="0" lang="hu-HU" sz="2000" spc="-1" strike="noStrike">
                  <a:solidFill>
                    <a:srgbClr val="402000"/>
                  </a:solidFill>
                  <a:latin typeface="Times New Roman"/>
                </a:rPr>
                <a:t>Hőfelszabadulással járó folyamat  </a:t>
              </a:r>
              <a:r>
                <a:rPr b="0" lang="hu-HU" sz="20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</a:t>
              </a:r>
              <a:r>
                <a:rPr b="0" lang="hu-HU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1" lang="hu-HU" sz="2000" spc="-1" strike="noStrike">
                  <a:solidFill>
                    <a:srgbClr val="402000"/>
                  </a:solidFill>
                  <a:latin typeface="Times New Roman"/>
                </a:rPr>
                <a:t>exoterm </a:t>
              </a:r>
              <a:r>
                <a:rPr b="1" lang="hu-HU" sz="2000" spc="-1" strike="noStrike">
                  <a:solidFill>
                    <a:srgbClr val="402000"/>
                  </a:solidFill>
                  <a:latin typeface="Times New Roman"/>
                </a:rPr>
                <a:t>	</a:t>
              </a:r>
              <a:r>
                <a:rPr b="1" lang="hu-HU" sz="2000" spc="-1" strike="noStrike">
                  <a:solidFill>
                    <a:srgbClr val="402000"/>
                  </a:solidFill>
                  <a:latin typeface="Times New Roman"/>
                </a:rPr>
                <a:t>	</a:t>
              </a:r>
              <a:r>
                <a:rPr b="1" lang="hu-HU" sz="2000" spc="-1" strike="noStrike">
                  <a:solidFill>
                    <a:srgbClr val="402000"/>
                  </a:solidFill>
                  <a:latin typeface="Times New Roman"/>
                </a:rPr>
                <a:t>- </a:t>
              </a:r>
              <a:r>
                <a:rPr b="1" lang="hu-H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∆H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435680" y="1942920"/>
              <a:ext cx="6613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402000"/>
                  </a:solidFill>
                  <a:latin typeface="Times New Roman"/>
                </a:rPr>
                <a:t>Hőelnyeléssel járó folyamat </a:t>
              </a:r>
              <a:r>
                <a:rPr b="0" lang="hu-HU" sz="20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</a:t>
              </a:r>
              <a:r>
                <a:rPr b="0" lang="hu-HU" sz="20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1" lang="hu-HU" sz="2000" spc="-1" strike="noStrike">
                  <a:solidFill>
                    <a:srgbClr val="402000"/>
                  </a:solidFill>
                  <a:latin typeface="Times New Roman"/>
                </a:rPr>
                <a:t>endoterm</a:t>
              </a:r>
              <a:r>
                <a:rPr b="1" lang="hu-HU" sz="2000" spc="-1" strike="noStrike">
                  <a:solidFill>
                    <a:srgbClr val="402000"/>
                  </a:solidFill>
                  <a:latin typeface="Times New Roman"/>
                </a:rPr>
                <a:t>	</a:t>
              </a:r>
              <a:r>
                <a:rPr b="1" lang="hu-HU" sz="2000" spc="-1" strike="noStrike">
                  <a:solidFill>
                    <a:srgbClr val="402000"/>
                  </a:solidFill>
                  <a:latin typeface="Times New Roman"/>
                </a:rPr>
                <a:t>	</a:t>
              </a:r>
              <a:r>
                <a:rPr b="1" lang="hu-HU" sz="2000" spc="-1" strike="noStrike">
                  <a:solidFill>
                    <a:srgbClr val="402000"/>
                  </a:solidFill>
                  <a:latin typeface="Times New Roman"/>
                </a:rPr>
                <a:t>      + </a:t>
              </a:r>
              <a:r>
                <a:rPr b="1" lang="hu-HU" sz="20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∆H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5600" y="4773600"/>
            <a:ext cx="7743600" cy="2208960"/>
            <a:chOff x="1065600" y="4773600"/>
            <a:chExt cx="7743600" cy="2208960"/>
          </a:xfrm>
        </p:grpSpPr>
        <mc:AlternateContent>
          <mc:Choice xmlns:a14="http://schemas.microsoft.com/office/drawing/2010/main" Requires="a14">
            <p:sp>
              <p:nvSpPr>
                <p:cNvPr id="147" name=""/>
                <p:cNvSpPr txBox="1"/>
                <p:nvPr/>
              </p:nvSpPr>
              <p:spPr>
                <a:xfrm>
                  <a:off x="2590920" y="5000760"/>
                  <a:ext cx="4068720" cy="88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lg</m:t>
                      </m:r>
                      <m:f>
                        <m:num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rPr>
                          <m:lit/>
                          <m:nor/>
                        </m:rPr>
                        <m:t xml:space="preserve">=-</m:t>
                      </m:r>
                      <m:d>
                        <m:dPr>
                          <m:begChr m:val="["/>
                          <m:endChr m:val="]"/>
                        </m:dPr>
                        <m:e>
                          <m:f>
                            <m:num>
                              <m:sSub>
                                <m:e>
                                  <m:r>
                                    <m:t xml:space="preserve">H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num>
                            <m:den>
                              <m:r>
                                <m:rPr>
                                  <m:lit/>
                                  <m:nor/>
                                </m:rPr>
                                <m:t xml:space="preserve">2,303</m:t>
                              </m:r>
                              <m:r>
                                <m:t xml:space="preserve">⋅</m:t>
                              </m:r>
                              <m:r>
                                <m:t xml:space="preserve">R</m:t>
                              </m:r>
                            </m:den>
                          </m:f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1</m:t>
                                      </m:r>
                                    </m:sub>
                                  </m:sSub>
                                </m:den>
                              </m:f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1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t xml:space="preserve">T</m:t>
                                      </m:r>
                                    </m:e>
                                    <m:sub>
                                      <m:r>
                                        <m:t xml:space="preserve">2</m:t>
                                      </m:r>
                                    </m:sub>
                                  </m:sSub>
                                </m:den>
                              </m:f>
                            </m:e>
                          </m:d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lg</m:t>
                          </m:r>
                          <m:f>
                            <m:num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num>
                            <m:den>
                              <m:sSub>
                                <m:e>
                                  <m:r>
                                    <m:t xml:space="preserve">g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48" name=""/>
            <p:cNvSpPr/>
            <p:nvPr/>
          </p:nvSpPr>
          <p:spPr>
            <a:xfrm>
              <a:off x="1065600" y="4773600"/>
              <a:ext cx="171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 u="sng">
                  <a:solidFill>
                    <a:srgbClr val="cc0000"/>
                  </a:solidFill>
                  <a:uFillTx/>
                  <a:latin typeface="Times New Roman"/>
                </a:rPr>
                <a:t>Reális oldatok</a:t>
              </a:r>
              <a:r>
                <a:rPr b="0" lang="hu-HU" sz="2000" spc="-1" strike="noStrike">
                  <a:solidFill>
                    <a:srgbClr val="800000"/>
                  </a:solidFill>
                  <a:latin typeface="Times New Roman"/>
                </a:rPr>
                <a:t>: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59640" y="5877000"/>
              <a:ext cx="2149560" cy="11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lang="hu-HU" sz="1800" spc="-1" strike="noStrike" baseline="-25000">
                  <a:solidFill>
                    <a:srgbClr val="402000"/>
                  </a:solidFill>
                  <a:latin typeface="Times New Roman"/>
                </a:rPr>
                <a:t>i</a:t>
              </a:r>
              <a:r>
                <a:rPr b="0" lang="hu-HU" sz="1800" spc="-1" strike="noStrike">
                  <a:solidFill>
                    <a:srgbClr val="402000"/>
                  </a:solidFill>
                  <a:latin typeface="Times New Roman"/>
                </a:rPr>
                <a:t> = </a:t>
              </a:r>
              <a:r>
                <a:rPr b="0" lang="hu-HU" sz="18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</a:t>
              </a:r>
              <a:r>
                <a:rPr b="0" lang="hu-HU" sz="1800" spc="-1" strike="noStrike" baseline="-25000">
                  <a:solidFill>
                    <a:srgbClr val="402000"/>
                  </a:solidFill>
                  <a:latin typeface="Times New Roman"/>
                </a:rPr>
                <a:t>i</a:t>
              </a:r>
              <a:r>
                <a:rPr b="0" lang="hu-HU" sz="1800" spc="-1" strike="noStrike">
                  <a:solidFill>
                    <a:srgbClr val="402000"/>
                  </a:solidFill>
                  <a:latin typeface="Times New Roman"/>
                </a:rPr>
                <a:t>· c</a:t>
              </a:r>
              <a:r>
                <a:rPr b="0" lang="hu-HU" sz="1800" spc="-1" strike="noStrike" baseline="-25000">
                  <a:solidFill>
                    <a:srgbClr val="402000"/>
                  </a:solidFill>
                  <a:latin typeface="Times New Roman"/>
                </a:rPr>
                <a:t>i</a:t>
              </a:r>
              <a:r>
                <a:rPr b="0" lang="hu-HU" sz="1800" spc="-1" strike="noStrike" baseline="-25000">
                  <a:solidFill>
                    <a:srgbClr val="402000"/>
                  </a:solidFill>
                  <a:latin typeface="Times New Roman"/>
                </a:rPr>
                <a:t>	</a:t>
              </a:r>
              <a:r>
                <a:rPr b="0" lang="hu-HU" sz="1800" spc="-1" strike="noStrike" baseline="-25000">
                  <a:solidFill>
                    <a:srgbClr val="402000"/>
                  </a:solidFill>
                  <a:latin typeface="Times New Roman"/>
                </a:rPr>
                <a:t>	</a:t>
              </a:r>
              <a:r>
                <a:rPr b="0" lang="hu-HU" sz="1800" spc="-1" strike="noStrike" baseline="-25000">
                  <a:solidFill>
                    <a:srgbClr val="402000"/>
                  </a:solidFill>
                  <a:latin typeface="Times New Roman"/>
                </a:rPr>
                <a:t>                                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402000"/>
                  </a:solidFill>
                  <a:latin typeface="Times New Roman"/>
                </a:rPr>
                <a:t>lg a</a:t>
              </a:r>
              <a:r>
                <a:rPr b="0" lang="hu-HU" sz="1800" spc="-1" strike="noStrike" baseline="-25000">
                  <a:solidFill>
                    <a:srgbClr val="402000"/>
                  </a:solidFill>
                  <a:latin typeface="Times New Roman"/>
                </a:rPr>
                <a:t>i</a:t>
              </a:r>
              <a:r>
                <a:rPr b="0" lang="hu-HU" sz="1800" spc="-1" strike="noStrike">
                  <a:solidFill>
                    <a:srgbClr val="402000"/>
                  </a:solidFill>
                  <a:latin typeface="Times New Roman"/>
                </a:rPr>
                <a:t> = lg </a:t>
              </a:r>
              <a:r>
                <a:rPr b="0" lang="hu-HU" sz="18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</a:t>
              </a:r>
              <a:r>
                <a:rPr b="0" lang="hu-HU" sz="1800" spc="-1" strike="noStrike" baseline="-25000">
                  <a:solidFill>
                    <a:srgbClr val="402000"/>
                  </a:solidFill>
                  <a:latin typeface="Times New Roman"/>
                </a:rPr>
                <a:t>i</a:t>
              </a:r>
              <a:r>
                <a:rPr b="0" lang="hu-HU" sz="1800" spc="-1" strike="noStrike">
                  <a:solidFill>
                    <a:srgbClr val="402000"/>
                  </a:solidFill>
                  <a:latin typeface="Times New Roman"/>
                </a:rPr>
                <a:t> + lg c</a:t>
              </a:r>
              <a:r>
                <a:rPr b="0" lang="hu-HU" sz="1800" spc="-1" strike="noStrike" baseline="-25000">
                  <a:solidFill>
                    <a:srgbClr val="402000"/>
                  </a:solidFill>
                  <a:latin typeface="Times New Roman"/>
                </a:rPr>
                <a:t>i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256400" y="5805360"/>
              <a:ext cx="252612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18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r>
                <a:rPr b="0" lang="hu-HU" sz="1800" spc="-1" strike="noStrike">
                  <a:solidFill>
                    <a:srgbClr val="402000"/>
                  </a:solidFill>
                  <a:latin typeface="Times New Roman"/>
                </a:rPr>
                <a:t> = aktivitás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γ</a:t>
              </a:r>
              <a:r>
                <a:rPr b="0" lang="hu-HU" sz="18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 = aktivitási koefficiens</a:t>
              </a:r>
              <a:r>
                <a:rPr b="0" lang="hu-HU" sz="2400" spc="-1" strike="noStrike">
                  <a:solidFill>
                    <a:srgbClr val="402000"/>
                  </a:solidFill>
                  <a:latin typeface="Times New Roman"/>
                  <a:ea typeface="Times New Roman"/>
                </a:rPr>
                <a:t> 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2031840" y="136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692360" y="404640"/>
            <a:ext cx="5774760" cy="1036080"/>
            <a:chOff x="1692360" y="404640"/>
            <a:chExt cx="5774760" cy="1036080"/>
          </a:xfrm>
        </p:grpSpPr>
        <p:sp>
          <p:nvSpPr>
            <p:cNvPr id="153" name=""/>
            <p:cNvSpPr/>
            <p:nvPr/>
          </p:nvSpPr>
          <p:spPr>
            <a:xfrm>
              <a:off x="1692360" y="981000"/>
              <a:ext cx="577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3" marL="1371600" algn="ctr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cc0000"/>
                  </a:solidFill>
                  <a:latin typeface="Times New Roman"/>
                </a:rPr>
                <a:t>1. A hőmérséklet (T) szerep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51440" y="404640"/>
              <a:ext cx="51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2400" spc="-1" strike="noStrike">
                  <a:solidFill>
                    <a:srgbClr val="402000"/>
                  </a:solidFill>
                  <a:latin typeface="Times New Roman"/>
                </a:rPr>
                <a:t>Az oldékonyságot befolyásoló tényezők 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819520" y="2743200"/>
                <a:ext cx="29653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,303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2057040" y="3645000"/>
            <a:ext cx="4618440" cy="13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1" lang="hu-HU" sz="18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 és c</a:t>
            </a:r>
            <a:r>
              <a:rPr b="1" lang="hu-HU" sz="18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  = koncentrációk (mol/l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1" lang="hu-HU" sz="1800" spc="-1" strike="noStrike" baseline="-25000">
                <a:solidFill>
                  <a:srgbClr val="402000"/>
                </a:solidFill>
                <a:latin typeface="Times New Roman"/>
              </a:rPr>
              <a:t>o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= 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moláris oldáshő (J/mol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T</a:t>
            </a:r>
            <a:r>
              <a:rPr b="1" lang="hu-HU" sz="18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 és T</a:t>
            </a:r>
            <a:r>
              <a:rPr b="1" lang="hu-HU" sz="18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= abszolút hőmérsékletek (K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R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 = egyetemes gázállandó (J/mol·K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87840" y="274320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cc0000"/>
                </a:solidFill>
                <a:uFillTx/>
                <a:latin typeface="Times New Roman"/>
              </a:rPr>
              <a:t>Ideális oldatok</a:t>
            </a:r>
            <a:r>
              <a:rPr b="0" lang="hu-HU" sz="2000" spc="-1" strike="noStrike">
                <a:solidFill>
                  <a:srgbClr val="8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900000" y="3068640"/>
          <a:ext cx="4883400" cy="32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068640"/>
                    <a:ext cx="4883400" cy="32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2103480" y="13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92360" y="404640"/>
            <a:ext cx="5774760" cy="1036080"/>
            <a:chOff x="1692360" y="404640"/>
            <a:chExt cx="5774760" cy="1036080"/>
          </a:xfrm>
        </p:grpSpPr>
        <p:sp>
          <p:nvSpPr>
            <p:cNvPr id="162" name=""/>
            <p:cNvSpPr/>
            <p:nvPr/>
          </p:nvSpPr>
          <p:spPr>
            <a:xfrm>
              <a:off x="1692360" y="981000"/>
              <a:ext cx="577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3" marL="1371600" algn="ctr">
                <a:lnSpc>
                  <a:spcPct val="100000"/>
                </a:lnSpc>
                <a:spcBef>
                  <a:spcPts val="1199"/>
                </a:spcBef>
                <a:spcAft>
                  <a:spcPts val="300"/>
                </a:spcAft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cc0000"/>
                  </a:solidFill>
                  <a:latin typeface="Times New Roman"/>
                </a:rPr>
                <a:t>1. A hőmérséklet (T) szerep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251440" y="404640"/>
              <a:ext cx="511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hu-HU" sz="2400" spc="-1" strike="noStrike">
                  <a:solidFill>
                    <a:srgbClr val="402000"/>
                  </a:solidFill>
                  <a:latin typeface="Times New Roman"/>
                </a:rPr>
                <a:t>Az oldékonyságot befolyásoló tényezők 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4572000" y="1557360"/>
            <a:ext cx="4320360" cy="3532680"/>
            <a:chOff x="4572000" y="1557360"/>
            <a:chExt cx="4320360" cy="3532680"/>
          </a:xfrm>
        </p:grpSpPr>
        <p:grpSp>
          <p:nvGrpSpPr>
            <p:cNvPr id="165" name=""/>
            <p:cNvGrpSpPr/>
            <p:nvPr/>
          </p:nvGrpSpPr>
          <p:grpSpPr>
            <a:xfrm>
              <a:off x="4572000" y="1557360"/>
              <a:ext cx="4320360" cy="3532680"/>
              <a:chOff x="4572000" y="1557360"/>
              <a:chExt cx="4320360" cy="3532680"/>
            </a:xfrm>
          </p:grpSpPr>
          <p:grpSp>
            <p:nvGrpSpPr>
              <p:cNvPr id="166" name=""/>
              <p:cNvGrpSpPr/>
              <p:nvPr/>
            </p:nvGrpSpPr>
            <p:grpSpPr>
              <a:xfrm>
                <a:off x="4572000" y="1557360"/>
                <a:ext cx="4320360" cy="3151080"/>
                <a:chOff x="4572000" y="1557360"/>
                <a:chExt cx="4320360" cy="3151080"/>
              </a:xfrm>
            </p:grpSpPr>
            <p:graphicFrame>
              <p:nvGraphicFramePr>
                <p:cNvPr id="167" name=""/>
                <p:cNvGraphicFramePr/>
                <p:nvPr/>
              </p:nvGraphicFramePr>
              <p:xfrm>
                <a:off x="4572000" y="1557360"/>
                <a:ext cx="4320360" cy="315108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68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4572000" y="1557360"/>
                          <a:ext cx="4320360" cy="31510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69" name=""/>
                <p:cNvSpPr/>
                <p:nvPr/>
              </p:nvSpPr>
              <p:spPr>
                <a:xfrm>
                  <a:off x="6779880" y="1991160"/>
                  <a:ext cx="1078560" cy="459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2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0" name=""/>
              <p:cNvSpPr/>
              <p:nvPr/>
            </p:nvSpPr>
            <p:spPr>
              <a:xfrm>
                <a:off x="8224920" y="4782960"/>
                <a:ext cx="429120" cy="307080"/>
              </a:xfrm>
              <a:prstGeom prst="rect">
                <a:avLst/>
              </a:prstGeom>
              <a:solidFill>
                <a:srgbClr val="fbfae2"/>
              </a:solidFill>
              <a:ln w="9360">
                <a:solidFill>
                  <a:srgbClr val="fbfae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u-HU" sz="1400" spc="-1" strike="noStrike">
                    <a:solidFill>
                      <a:srgbClr val="402000"/>
                    </a:solidFill>
                    <a:latin typeface="Times New Roman"/>
                  </a:rPr>
                  <a:t>1/T</a:t>
                </a:r>
                <a:endParaRPr b="0" lang="en-US" sz="1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6011280" y="1628640"/>
              <a:ext cx="283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cc0000"/>
                  </a:solidFill>
                  <a:latin typeface="Times New Roman"/>
                </a:rPr>
                <a:t>Clausius-Clapeyron egyenlet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26920" y="765000"/>
            <a:ext cx="71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2. Alkalmazás helye szerinti kémhatá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58920" y="1844640"/>
          <a:ext cx="7129440" cy="3868920"/>
        </p:xfrm>
        <a:graphic>
          <a:graphicData uri="http://schemas.openxmlformats.org/drawingml/2006/table">
            <a:tbl>
              <a:tblPr/>
              <a:tblGrid>
                <a:gridCol w="3565440"/>
                <a:gridCol w="356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Készítmény típusa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Ideális pH-tartomány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Bőrön alkalmazott készítmények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Fülészeti készítmények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Hüvelyben alkalmazott készítmények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Infúziók, intravénás injekciók 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5580000" y="249228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2000"/>
                </a:solidFill>
                <a:latin typeface="Times New Roman"/>
              </a:rPr>
              <a:t>5-6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92720" y="3357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2000"/>
                </a:solidFill>
                <a:latin typeface="Times New Roman"/>
              </a:rPr>
              <a:t>3-5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292720" y="400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2000"/>
                </a:solidFill>
                <a:latin typeface="Times New Roman"/>
              </a:rPr>
              <a:t>4-5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508720" y="5013360"/>
            <a:ext cx="2303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32360" y="4950000"/>
            <a:ext cx="3168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Ideális esetben: 7,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(elfogadható: 5-9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26920" y="765000"/>
            <a:ext cx="71280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2. Alkalmazás helye szerinti kémhatá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1258920" y="1844640"/>
          <a:ext cx="7129440" cy="3778200"/>
        </p:xfrm>
        <a:graphic>
          <a:graphicData uri="http://schemas.openxmlformats.org/drawingml/2006/table">
            <a:tbl>
              <a:tblPr/>
              <a:tblGrid>
                <a:gridCol w="3565440"/>
                <a:gridCol w="356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Készítmény típusa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Ideális pH-tartomány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Orrnyálkahártyán alkalmazott készítmények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Szemészeti készítmények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Végbélben alkalmazott készítmények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1" name=""/>
          <p:cNvSpPr/>
          <p:nvPr/>
        </p:nvSpPr>
        <p:spPr>
          <a:xfrm>
            <a:off x="5292720" y="2838600"/>
            <a:ext cx="25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2000"/>
                </a:solidFill>
                <a:latin typeface="Times New Roman"/>
              </a:rPr>
              <a:t>5-7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39178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2000"/>
                </a:solidFill>
                <a:latin typeface="Times New Roman"/>
              </a:rPr>
              <a:t>6,8-8,5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4869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402000"/>
                </a:solidFill>
                <a:latin typeface="Times New Roman"/>
              </a:rPr>
              <a:t>7-8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392400" y="692280"/>
            <a:ext cx="7686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3. Az o</a:t>
            </a: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ldószer permittivitás</a:t>
            </a: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ának (</a:t>
            </a:r>
            <a:r>
              <a:rPr b="1" lang="hu-HU" sz="2400" spc="-1" strike="noStrike">
                <a:solidFill>
                  <a:srgbClr val="cc0000"/>
                </a:solidFill>
                <a:latin typeface="Symbol"/>
                <a:ea typeface="Symbol"/>
              </a:rPr>
              <a:t></a:t>
            </a: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) szerep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7431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116000" y="1773360"/>
            <a:ext cx="3949200" cy="2809440"/>
            <a:chOff x="1116000" y="1773360"/>
            <a:chExt cx="3949200" cy="2809440"/>
          </a:xfrm>
        </p:grpSpPr>
        <p:graphicFrame>
          <p:nvGraphicFramePr>
            <p:cNvPr id="187" name=""/>
            <p:cNvGraphicFramePr/>
            <p:nvPr/>
          </p:nvGraphicFramePr>
          <p:xfrm>
            <a:off x="1116000" y="1773360"/>
            <a:ext cx="3949200" cy="280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773360"/>
                      <a:ext cx="3949200" cy="280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9" name=""/>
            <p:cNvSpPr/>
            <p:nvPr/>
          </p:nvSpPr>
          <p:spPr>
            <a:xfrm>
              <a:off x="3050280" y="2174400"/>
              <a:ext cx="1289520" cy="40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4623480" y="4049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56000" y="5084640"/>
            <a:ext cx="5327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2000"/>
                </a:solidFill>
                <a:latin typeface="Times New Roman"/>
              </a:rPr>
              <a:t>A permittivitás növelésével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2000"/>
                </a:solidFill>
                <a:latin typeface="Times New Roman"/>
              </a:rPr>
              <a:t>az apoláris anyagok oldékonysága csökken,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2000"/>
                </a:solidFill>
                <a:latin typeface="Times New Roman"/>
              </a:rPr>
              <a:t>a polárisaké nő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144040" y="2997360"/>
            <a:ext cx="35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(lg </a:t>
            </a:r>
            <a:r>
              <a:rPr b="0" i="1" lang="hu-HU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– </a:t>
            </a:r>
            <a:r>
              <a:rPr b="0" i="1" lang="hu-HU" sz="2400" spc="-1" strike="noStrike">
                <a:solidFill>
                  <a:srgbClr val="402000"/>
                </a:solidFill>
                <a:latin typeface="Symbol"/>
                <a:ea typeface="Symbol"/>
              </a:rPr>
              <a:t>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) kapcsolat lineári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073480" y="2060640"/>
            <a:ext cx="373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– </a:t>
            </a:r>
            <a:r>
              <a:rPr b="0" i="1" lang="hu-HU" sz="2400" spc="-1" strike="noStrike">
                <a:solidFill>
                  <a:srgbClr val="402000"/>
                </a:solidFill>
                <a:latin typeface="Symbol"/>
                <a:ea typeface="Symbol"/>
              </a:rPr>
              <a:t>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kapcsolat exponenciáli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908000" y="465300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600" spc="-1" strike="noStrike">
                <a:solidFill>
                  <a:srgbClr val="402000"/>
                </a:solidFill>
                <a:latin typeface="Times New Roman"/>
              </a:rPr>
              <a:t>olaj</a:t>
            </a:r>
            <a:r>
              <a:rPr b="0" i="1" lang="hu-HU" sz="1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402000"/>
                </a:solidFill>
                <a:latin typeface="Times New Roman"/>
              </a:rPr>
              <a:t>etanol</a:t>
            </a:r>
            <a:r>
              <a:rPr b="0" i="1" lang="hu-HU" sz="1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hu-HU" sz="1600" spc="-1" strike="noStrike">
                <a:solidFill>
                  <a:srgbClr val="402000"/>
                </a:solidFill>
                <a:latin typeface="Times New Roman"/>
              </a:rPr>
              <a:t>glicerin    víz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332000" y="62064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cc0000"/>
                </a:solidFill>
                <a:latin typeface="Times New Roman"/>
              </a:rPr>
              <a:t>Oldószerek dielektromos állandói 25 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°</a:t>
            </a:r>
            <a:r>
              <a:rPr b="0" lang="hu-HU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-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58920" y="1700280"/>
          <a:ext cx="7416720" cy="4647960"/>
        </p:xfrm>
        <a:graphic>
          <a:graphicData uri="http://schemas.openxmlformats.org/drawingml/2006/table">
            <a:tbl>
              <a:tblPr/>
              <a:tblGrid>
                <a:gridCol w="3025800"/>
                <a:gridCol w="4390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Oldószer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Dielektromos állandó (</a:t>
                      </a:r>
                      <a:r>
                        <a:rPr b="0" lang="el-GR" sz="2800" spc="-1" strike="noStrike">
                          <a:solidFill>
                            <a:srgbClr val="402000"/>
                          </a:solidFill>
                          <a:latin typeface="Times New Roman"/>
                          <a:ea typeface="Times New Roman"/>
                        </a:rPr>
                        <a:t>ε</a:t>
                      </a: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1368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Víz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78,5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Glicerin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42,5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Propilén-glikol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Etanol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4,3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Propanol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20,1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PEG 400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13,6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Gyapotmagolaj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576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8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5760">
                      <a:solidFill>
                        <a:srgbClr val="402000"/>
                      </a:solidFill>
                    </a:lnB>
                    <a:noFill/>
                  </a:tcPr>
                </a:tc>
              </a:tr>
              <a:tr h="483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402000"/>
                          </a:solidFill>
                          <a:latin typeface="Times New Roman"/>
                        </a:rPr>
                        <a:t>Referenciaérték: paraffinolaj</a:t>
                      </a:r>
                      <a:endParaRPr b="0" lang="en-US" sz="20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402000"/>
                      </a:solidFill>
                    </a:lnL>
                    <a:lnR w="13680">
                      <a:solidFill>
                        <a:srgbClr val="402000"/>
                      </a:solidFill>
                    </a:lnR>
                    <a:lnT w="5760">
                      <a:solidFill>
                        <a:srgbClr val="402000"/>
                      </a:solidFill>
                    </a:lnT>
                    <a:lnB w="13680">
                      <a:solidFill>
                        <a:srgbClr val="402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402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480760" y="620640"/>
            <a:ext cx="49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02000"/>
                </a:solidFill>
                <a:latin typeface="Times New Roman"/>
              </a:rPr>
              <a:t>Fizikai technológia gyakorlatok célj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066680" y="1295280"/>
            <a:ext cx="75852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00000"/>
              </a:lnSpc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Gyógyszerformák fizikai minősítő vizsgálatainak megismeré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Ph. Hg. VIII. fizikai minősítő vizsgálatainak áttekinté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Fizikai-kémiai összefüggések alkalmazása a gyógyszerészetbe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200000"/>
              </a:lnSpc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Preformulálási vizsgálat és -folyamat (gyógyszerfejlesztés) megismeré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114920" y="692280"/>
            <a:ext cx="6255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Egyenes egyenletének számítás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743120" y="2152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1116000" y="1773360"/>
            <a:ext cx="3949200" cy="2809440"/>
            <a:chOff x="1116000" y="1773360"/>
            <a:chExt cx="3949200" cy="2809440"/>
          </a:xfrm>
        </p:grpSpPr>
        <p:graphicFrame>
          <p:nvGraphicFramePr>
            <p:cNvPr id="200" name=""/>
            <p:cNvGraphicFramePr/>
            <p:nvPr/>
          </p:nvGraphicFramePr>
          <p:xfrm>
            <a:off x="1116000" y="1773360"/>
            <a:ext cx="3949200" cy="280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16000" y="1773360"/>
                      <a:ext cx="3949200" cy="280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2" name=""/>
            <p:cNvSpPr/>
            <p:nvPr/>
          </p:nvSpPr>
          <p:spPr>
            <a:xfrm>
              <a:off x="3050280" y="2174400"/>
              <a:ext cx="1289520" cy="40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623480" y="4049640"/>
            <a:ext cx="290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Symbol"/>
                <a:ea typeface="Symbol"/>
              </a:rPr>
              <a:t>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050920" y="4581360"/>
            <a:ext cx="280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hu-HU" sz="1400" spc="-1" strike="noStrike">
                <a:solidFill>
                  <a:srgbClr val="402000"/>
                </a:solidFill>
                <a:latin typeface="Times New Roman"/>
              </a:rPr>
              <a:t>10    20     30   40    50     60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24000" y="2781360"/>
            <a:ext cx="86364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87640" y="2781360"/>
            <a:ext cx="0" cy="17272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50920" y="4076640"/>
            <a:ext cx="172908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80000" y="4076640"/>
            <a:ext cx="0" cy="4320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19640" y="1773360"/>
            <a:ext cx="3384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X1 érték: 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X2 érték: 4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Y1 érték: - 0,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Y2 érték: - 2,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16000" y="4906800"/>
            <a:ext cx="741672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y = mx + b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meredekség: Y2 – Y1 / X2 – X1 = -0,0625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Egy pontba (pl. X1 és Y1) visszahelyettesítve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-0,5 = -0,0625*23 + b 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b = 0,9375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Egyenes egyenlete: 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y = -0,0625 x + 0,9375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4. </a:t>
            </a: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A </a:t>
            </a: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segédanyagok szerepe az oldékonyság növelésében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1480" y="251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332000" y="1700280"/>
            <a:ext cx="7405560" cy="51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Sóképzés</a:t>
            </a:r>
            <a:r>
              <a:rPr b="1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hu-HU" sz="2400" spc="-1" strike="noStrike">
                <a:solidFill>
                  <a:srgbClr val="402000"/>
                </a:solidFill>
                <a:latin typeface="Times New Roman"/>
              </a:rPr>
              <a:t>(pl. fenobarbitál </a:t>
            </a:r>
            <a:r>
              <a:rPr b="0" i="1" lang="hu-HU" sz="24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i="1" lang="hu-HU" sz="2400" spc="-1" strike="noStrike">
                <a:solidFill>
                  <a:srgbClr val="402000"/>
                </a:solidFill>
                <a:latin typeface="Times New Roman"/>
              </a:rPr>
              <a:t> fenobarbitál-N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hu-HU" sz="2400" spc="-1" strike="noStrike">
                <a:solidFill>
                  <a:srgbClr val="402000"/>
                </a:solidFill>
                <a:latin typeface="Times New Roman"/>
              </a:rPr>
              <a:t>pilokarpin </a:t>
            </a:r>
            <a:r>
              <a:rPr b="0" i="1" lang="hu-H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→ pilokarpin -klorid</a:t>
            </a:r>
            <a:r>
              <a:rPr b="0" i="1" lang="hu-HU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Hidrofil csoportok bevite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Szolubilizálás</a:t>
            </a:r>
            <a:r>
              <a:rPr b="1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hu-HU" sz="2400" spc="-1" strike="noStrike">
                <a:solidFill>
                  <a:srgbClr val="402000"/>
                </a:solidFill>
                <a:latin typeface="Times New Roman"/>
              </a:rPr>
              <a:t>(pl. illóolajok vízben való eloszlatása Tween-ekkel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3333cc"/>
                </a:solidFill>
                <a:latin typeface="Times New Roman"/>
              </a:rPr>
              <a:t>Komplex-képzé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- fémkomplexek (Zn-inzulin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- fizikai komplexek (hidrotróp oldásközvetítés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- zárványkomplexek – ciklodextrine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4. </a:t>
            </a: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A </a:t>
            </a: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segédanyagok szerepe – Hidrotróp oldásközvetítés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671480" y="251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1773360"/>
            <a:ext cx="7548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A hidrotróp oldásközvetítő segédanyagok megfelelő koncentráció elérését követően képesek lehetnek rossz vízoldékonyságú vegyületek vízoldhatóságát növelni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Nem egy specifikus reakció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Feltételezett mechanizmusai: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1. komplexképzés a hidrotróp segédanyag és a rossz vízoldékonyságú vegyület közöt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2. a hidrotróp segédanyag asszociátumképzé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4. </a:t>
            </a: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A </a:t>
            </a: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segédanyagok szerepe – Hidrotróp oldásközvetítés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71480" y="251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1773360"/>
            <a:ext cx="7548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Hidrotróp segédanyag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Hatóanyag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Nikotinamid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diazepam, nifedipin, 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griseofulv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Nátrium-benzoát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indometacin, nifedipin, 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ketoprofen, koffein, 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teofillin, teobrom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Nátrium-szalicilát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indometacin, nifedipin, 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ketoprofen, koffein, 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teofillin, teobromin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4. </a:t>
            </a:r>
            <a:r>
              <a:rPr b="1" lang="en-GB" sz="2400" spc="-1" strike="noStrike">
                <a:solidFill>
                  <a:srgbClr val="cc0000"/>
                </a:solidFill>
                <a:latin typeface="Times New Roman"/>
              </a:rPr>
              <a:t>A </a:t>
            </a: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segédanyagok szerepe - Ciklodextrinek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71480" y="251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116000" y="1773360"/>
            <a:ext cx="7548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A 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ciklodextrinek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 hat, hét vagy nyolc alfa-D-glükopiranóz-egységből álló ciklikus oligoszacharidok. A ciklodextrinek belseje apoláris, külső felülete pedig poláris tulajdonságú. A ciklodextrinek és vendégmolekula között nem jön létre kovalens kötés.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23" name="" descr="Fájl:Cyclodextrin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3357720"/>
            <a:ext cx="762012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5. Prodrug módszer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671480" y="2513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16000" y="1773360"/>
            <a:ext cx="7548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Prodrug: Inaktív gyógyszermolekula, ami a szervezetben történő metabolizáció során alakul át aktív formává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Töltéssel rendelkező csoportok pl. észterek, acetátok gyógyszermolekulához kapcsolása megnövekedett vízoldékonyságot eredményezhet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Pl. betametazon vízoldékonyság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58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µ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g/ ml   25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º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C-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a betametazon foszfát észterének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vízoldékonysága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100 mg/ ml-re növekszik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25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º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C-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27" name="" descr="BETNESOL"/>
          <p:cNvPicPr/>
          <p:nvPr/>
        </p:nvPicPr>
        <p:blipFill>
          <a:blip r:embed="rId1"/>
          <a:stretch/>
        </p:blipFill>
        <p:spPr>
          <a:xfrm>
            <a:off x="5940360" y="3716280"/>
            <a:ext cx="234324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831680" y="620640"/>
            <a:ext cx="65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402000"/>
                </a:solidFill>
                <a:latin typeface="Times New Roman"/>
              </a:rPr>
              <a:t>Koncentráció meghatározása spektrofotometriása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821240" y="2060640"/>
            <a:ext cx="57096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Koncentráció = Abszorbancia * (1/ tg </a:t>
            </a:r>
            <a:r>
              <a:rPr b="0" lang="hu-HU" sz="2000" spc="-1" strike="noStrike">
                <a:solidFill>
                  <a:srgbClr val="402000"/>
                </a:solidFill>
                <a:latin typeface="Symbol"/>
                <a:ea typeface="Symbol"/>
              </a:rPr>
              <a:t></a:t>
            </a:r>
            <a:r>
              <a:rPr b="0" lang="hu-HU" sz="2000" spc="-1" strike="noStrike">
                <a:solidFill>
                  <a:srgbClr val="402000"/>
                </a:solidFill>
                <a:latin typeface="Times New Roman CE"/>
              </a:rPr>
              <a:t>* hígítás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(A koncentráció és az (1/ tg </a:t>
            </a:r>
            <a:r>
              <a:rPr b="0" lang="el-GR" sz="18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α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) mértékegysége megegyezik.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973080" y="3284640"/>
            <a:ext cx="3649320" cy="2886480"/>
            <a:chOff x="973080" y="3284640"/>
            <a:chExt cx="3649320" cy="2886480"/>
          </a:xfrm>
        </p:grpSpPr>
        <p:sp>
          <p:nvSpPr>
            <p:cNvPr id="231" name=""/>
            <p:cNvSpPr/>
            <p:nvPr/>
          </p:nvSpPr>
          <p:spPr>
            <a:xfrm>
              <a:off x="1733400" y="3284640"/>
              <a:ext cx="2514600" cy="2362320"/>
            </a:xfrm>
            <a:custGeom>
              <a:avLst/>
              <a:gdLst/>
              <a:ahLst/>
              <a:rect l="l" t="t" r="r" b="b"/>
              <a:pathLst>
                <a:path w="1584" h="1488">
                  <a:moveTo>
                    <a:pt x="0" y="0"/>
                  </a:moveTo>
                  <a:lnTo>
                    <a:pt x="0" y="1488"/>
                  </a:lnTo>
                  <a:lnTo>
                    <a:pt x="1584" y="1488"/>
                  </a:lnTo>
                </a:path>
              </a:pathLst>
            </a:custGeom>
            <a:noFill/>
            <a:ln w="9360">
              <a:solidFill>
                <a:srgbClr val="402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733400" y="3970080"/>
              <a:ext cx="2362320" cy="1676520"/>
            </a:xfrm>
            <a:prstGeom prst="line">
              <a:avLst/>
            </a:prstGeom>
            <a:ln w="38160">
              <a:solidFill>
                <a:srgbClr val="cd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721240" y="5772240"/>
              <a:ext cx="1901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402000"/>
                  </a:solidFill>
                  <a:latin typeface="Times New Roman"/>
                </a:rPr>
                <a:t>Koncentráció (c)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73080" y="3284640"/>
              <a:ext cx="36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402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43960" y="5189760"/>
              <a:ext cx="60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000" spc="-1" strike="noStrike">
                  <a:solidFill>
                    <a:srgbClr val="402000"/>
                  </a:solidFill>
                  <a:latin typeface="Times New Roman"/>
                </a:rPr>
                <a:t>tg </a:t>
              </a:r>
              <a:r>
                <a:rPr b="0" lang="hu-HU" sz="2000" spc="-1" strike="noStrike">
                  <a:solidFill>
                    <a:srgbClr val="402000"/>
                  </a:solidFill>
                  <a:latin typeface="Symbol"/>
                  <a:ea typeface="Symbol"/>
                </a:rPr>
                <a:t></a:t>
              </a:r>
              <a:endParaRPr b="0" lang="en-US" sz="20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38520" y="4427640"/>
              <a:ext cx="0" cy="1143000"/>
            </a:xfrm>
            <a:prstGeom prst="line">
              <a:avLst/>
            </a:prstGeom>
            <a:ln w="9360">
              <a:solidFill>
                <a:srgbClr val="402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31680" y="255600"/>
            <a:ext cx="8888760" cy="17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402000"/>
                </a:solidFill>
                <a:latin typeface="Times New Roman"/>
              </a:rPr>
              <a:t>Farmakonok disszociációs állandójának értéke befolyásolj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402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a farmakonok oldódásá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Clr>
                <a:srgbClr val="402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a farmakonok felszívódásá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710160" y="184464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HA </a:t>
            </a:r>
            <a:r>
              <a:rPr b="1" lang="hu-HU" sz="1600" spc="-1" strike="noStrike">
                <a:solidFill>
                  <a:srgbClr val="402000"/>
                </a:solidFill>
                <a:latin typeface="Symbol"/>
                <a:ea typeface="Symbol"/>
              </a:rPr>
              <a:t></a:t>
            </a: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H</a:t>
            </a:r>
            <a:r>
              <a:rPr b="1" lang="hu-HU" sz="1600" spc="-1" strike="noStrike" baseline="30000">
                <a:solidFill>
                  <a:srgbClr val="402000"/>
                </a:solidFill>
                <a:latin typeface="Times New Roman"/>
              </a:rPr>
              <a:t>+</a:t>
            </a: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 + A</a:t>
            </a:r>
            <a:r>
              <a:rPr b="1" lang="hu-HU" sz="1600" spc="-1" strike="noStrike" baseline="30000">
                <a:solidFill>
                  <a:srgbClr val="402000"/>
                </a:solidFill>
                <a:latin typeface="Times New Roman"/>
              </a:rPr>
              <a:t>-</a:t>
            </a: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3924360" y="2349360"/>
                <a:ext cx="120636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3008160" y="3141720"/>
            <a:ext cx="288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lg K = lg [A</a:t>
            </a:r>
            <a:r>
              <a:rPr b="1" lang="hu-HU" sz="1600" spc="-1" strike="noStrike" baseline="30000">
                <a:solidFill>
                  <a:srgbClr val="402000"/>
                </a:solidFill>
                <a:latin typeface="Times New Roman"/>
              </a:rPr>
              <a:t>-</a:t>
            </a: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] + lg [H</a:t>
            </a:r>
            <a:r>
              <a:rPr b="1" lang="hu-HU" sz="1600" spc="-1" strike="noStrike" baseline="30000">
                <a:solidFill>
                  <a:srgbClr val="402000"/>
                </a:solidFill>
                <a:latin typeface="Times New Roman"/>
              </a:rPr>
              <a:t>+</a:t>
            </a: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] - lg [HA]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15880" y="3716280"/>
            <a:ext cx="244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pK =pH - lg [A</a:t>
            </a:r>
            <a:r>
              <a:rPr b="1" lang="hu-HU" sz="1600" spc="-1" strike="noStrike" baseline="30000">
                <a:solidFill>
                  <a:srgbClr val="402000"/>
                </a:solidFill>
                <a:latin typeface="Times New Roman"/>
              </a:rPr>
              <a:t>-</a:t>
            </a: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] + lg [HA]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3492360" y="4221000"/>
                <a:ext cx="205740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</m:e>
                        </m:d>
                      </m:num>
                      <m:den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A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708360" y="4941720"/>
                <a:ext cx="16002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K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1001160" y="5867280"/>
            <a:ext cx="43365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ahol </a:t>
            </a: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 = a nem disszociált molekula koncentrációj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1" lang="hu-HU" sz="1600" spc="-1" strike="noStrike" baseline="-25000">
                <a:solidFill>
                  <a:srgbClr val="402000"/>
                </a:solidFill>
                <a:latin typeface="Times New Roman"/>
              </a:rPr>
              <a:t>d</a:t>
            </a: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= a disszociált molekula koncentrációja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348000" y="4869000"/>
            <a:ext cx="2448000" cy="93636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239840" y="186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1333440" y="1778040"/>
          <a:ext cx="708660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1778040"/>
                    <a:ext cx="7086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3400560" y="496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12360" y="738360"/>
            <a:ext cx="971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cc0000"/>
                </a:solidFill>
                <a:latin typeface="Times New Roman"/>
              </a:rPr>
              <a:t>Példa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641760" y="95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42920" y="549360"/>
            <a:ext cx="7561440" cy="12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64800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hu-HU" sz="2400" spc="-1" strike="noStrike">
                <a:solidFill>
                  <a:srgbClr val="402000"/>
                </a:solidFill>
                <a:latin typeface="Times New Roman"/>
              </a:rPr>
              <a:t>Farmakonok disszociációs állandójának meghatározá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64800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83320" y="1579680"/>
            <a:ext cx="393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402000"/>
                </a:solidFill>
                <a:uFillTx/>
                <a:latin typeface="Times New Roman"/>
              </a:rPr>
              <a:t>1. Spektrofotometriás módsz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3270240" y="3284640"/>
                <a:ext cx="2892600" cy="92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pH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lg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5" name=""/>
          <p:cNvSpPr/>
          <p:nvPr/>
        </p:nvSpPr>
        <p:spPr>
          <a:xfrm>
            <a:off x="1278000" y="4508640"/>
            <a:ext cx="64245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A= a kérdéses pufferben mért abszorbancia a választott hullámhossz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hu-HU" sz="1600" spc="-1" strike="noStrike" baseline="-25000">
                <a:solidFill>
                  <a:srgbClr val="402000"/>
                </a:solidFill>
                <a:latin typeface="Times New Roman"/>
              </a:rPr>
              <a:t>S</a:t>
            </a: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= az erősen savas közegben mért abszorbancia a választott hullámhossz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0" lang="hu-HU" sz="1600" spc="-1" strike="noStrike" baseline="-25000">
                <a:solidFill>
                  <a:srgbClr val="402000"/>
                </a:solidFill>
                <a:latin typeface="Times New Roman"/>
              </a:rPr>
              <a:t>B</a:t>
            </a: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= az erősen lúgos közegben mért abszorbancia a választott hullámhosszon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23840" y="2228760"/>
            <a:ext cx="526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2000"/>
                </a:solidFill>
                <a:latin typeface="Times New Roman"/>
              </a:rPr>
              <a:t>Alapja: a disszociált és disszociálatlan forma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200" spc="-1" strike="noStrike">
                <a:solidFill>
                  <a:srgbClr val="402000"/>
                </a:solidFill>
                <a:latin typeface="Times New Roman"/>
              </a:rPr>
              <a:t>abszorpciós spektruma eltérő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32000" y="3141720"/>
            <a:ext cx="3240360" cy="1224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780720" y="54936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02000"/>
                </a:solidFill>
                <a:latin typeface="Times New Roman"/>
              </a:rPr>
              <a:t>Tematika I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6920" y="1623960"/>
            <a:ext cx="6779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402000"/>
                </a:solidFill>
                <a:latin typeface="Times New Roman"/>
              </a:rPr>
              <a:t>I. félév/ I. negyed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402000"/>
                </a:solidFill>
                <a:latin typeface="Times New Roman"/>
              </a:rPr>
              <a:t>Oldatos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hu-HU" sz="2200" spc="-1" strike="noStrike">
                <a:solidFill>
                  <a:srgbClr val="402000"/>
                </a:solidFill>
                <a:latin typeface="Times New Roman"/>
              </a:rPr>
              <a:t>gyógyszerkészítmények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03600" y="2276640"/>
            <a:ext cx="7197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402000"/>
                </a:solidFill>
                <a:latin typeface="Times New Roman"/>
              </a:rPr>
              <a:t>I. félév/ II. negyed</a:t>
            </a:r>
            <a:r>
              <a:rPr b="1" lang="hu-HU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402000"/>
                </a:solidFill>
                <a:latin typeface="Times New Roman"/>
              </a:rPr>
              <a:t> Kolloid-durva diszperz rendszerek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16920" y="2935440"/>
            <a:ext cx="7809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402000"/>
                </a:solidFill>
                <a:latin typeface="Times New Roman"/>
              </a:rPr>
              <a:t>II. félév/ I. negyed</a:t>
            </a:r>
            <a:r>
              <a:rPr b="1" lang="hu-HU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402000"/>
                </a:solidFill>
                <a:latin typeface="Times New Roman"/>
              </a:rPr>
              <a:t>Plasztikus és félszilárd gyógyszerformák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7280" y="3583080"/>
            <a:ext cx="6707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402000"/>
                </a:solidFill>
                <a:latin typeface="Times New Roman"/>
              </a:rPr>
              <a:t>II. félév/ II. negyed</a:t>
            </a:r>
            <a:r>
              <a:rPr b="1" lang="hu-HU" sz="2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402000"/>
                </a:solidFill>
                <a:latin typeface="Times New Roman"/>
              </a:rPr>
              <a:t>Szilárd gyógyszerkészítmények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1311120" y="92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37520" y="858960"/>
            <a:ext cx="561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402000"/>
                </a:solidFill>
                <a:uFillTx/>
                <a:latin typeface="Times New Roman"/>
              </a:rPr>
              <a:t>2.</a:t>
            </a:r>
            <a:r>
              <a:rPr b="0" lang="hu-HU" sz="2000" spc="-1" strike="noStrike" u="sng">
                <a:solidFill>
                  <a:srgbClr val="402000"/>
                </a:solidFill>
                <a:uFillTx/>
                <a:latin typeface="Times New Roman"/>
              </a:rPr>
              <a:t> </a:t>
            </a:r>
            <a:r>
              <a:rPr b="0" lang="hu-HU" sz="2400" spc="-1" strike="noStrike" u="sng">
                <a:solidFill>
                  <a:srgbClr val="402000"/>
                </a:solidFill>
                <a:uFillTx/>
                <a:latin typeface="Times New Roman"/>
              </a:rPr>
              <a:t>Vezetőképesség mérésen alapuló módsz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280200" y="24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187280" y="3645000"/>
            <a:ext cx="698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Disszociáció fok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	</a:t>
            </a:r>
            <a:r>
              <a:rPr b="0" lang="el-GR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α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= </a:t>
            </a:r>
            <a:r>
              <a:rPr b="0" lang="el-GR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γ</a:t>
            </a:r>
            <a:r>
              <a:rPr b="0" lang="hu-HU" sz="2400" spc="-1" strike="noStrike" baseline="-25000">
                <a:solidFill>
                  <a:srgbClr val="402000"/>
                </a:solidFill>
                <a:latin typeface="Times New Roman"/>
                <a:ea typeface="Times New Roman"/>
              </a:rPr>
              <a:t>mol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/ </a:t>
            </a:r>
            <a:r>
              <a:rPr b="0" lang="el-GR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γ</a:t>
            </a:r>
            <a:r>
              <a:rPr b="0" lang="el-GR" sz="2400" spc="-1" strike="noStrike" baseline="-25000">
                <a:solidFill>
                  <a:srgbClr val="402000"/>
                </a:solidFill>
                <a:latin typeface="Tempus Sans ITC"/>
                <a:ea typeface="Times New Roman"/>
              </a:rPr>
              <a:t>∞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87840" y="3809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910760" y="4221000"/>
            <a:ext cx="2652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402000"/>
                </a:solidFill>
                <a:latin typeface="Times New Roman"/>
              </a:rPr>
              <a:t>γ</a:t>
            </a:r>
            <a:r>
              <a:rPr b="0" lang="el-GR" sz="2400" spc="-1" strike="noStrike" baseline="-25000">
                <a:solidFill>
                  <a:srgbClr val="402000"/>
                </a:solidFill>
                <a:latin typeface="Times New Roman"/>
              </a:rPr>
              <a:t>∞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= </a:t>
            </a:r>
            <a:r>
              <a:rPr b="0" lang="el-GR" sz="2400" spc="-1" strike="noStrike">
                <a:solidFill>
                  <a:srgbClr val="402000"/>
                </a:solidFill>
                <a:latin typeface="Times New Roman"/>
              </a:rPr>
              <a:t>γ</a:t>
            </a:r>
            <a:r>
              <a:rPr b="0" lang="el-GR" sz="2400" spc="-1" strike="noStrike" baseline="-25000">
                <a:solidFill>
                  <a:srgbClr val="402000"/>
                </a:solidFill>
                <a:latin typeface="Times New Roman"/>
              </a:rPr>
              <a:t>∞</a:t>
            </a:r>
            <a:r>
              <a:rPr b="0" lang="hu-HU" sz="2400" spc="-1" strike="noStrike" baseline="-25000">
                <a:solidFill>
                  <a:srgbClr val="402000"/>
                </a:solidFill>
                <a:latin typeface="Times New Roman"/>
              </a:rPr>
              <a:t> anion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+ </a:t>
            </a:r>
            <a:r>
              <a:rPr b="0" lang="el-GR" sz="2400" spc="-1" strike="noStrike">
                <a:solidFill>
                  <a:srgbClr val="402000"/>
                </a:solidFill>
                <a:latin typeface="Times New Roman"/>
              </a:rPr>
              <a:t> γ</a:t>
            </a:r>
            <a:r>
              <a:rPr b="0" lang="el-GR" sz="2400" spc="-1" strike="noStrike" baseline="-25000">
                <a:solidFill>
                  <a:srgbClr val="402000"/>
                </a:solidFill>
                <a:latin typeface="Times New Roman"/>
              </a:rPr>
              <a:t>∞</a:t>
            </a:r>
            <a:r>
              <a:rPr b="0" lang="hu-HU" sz="2400" spc="-1" strike="noStrike" baseline="-25000">
                <a:solidFill>
                  <a:srgbClr val="402000"/>
                </a:solidFill>
                <a:latin typeface="Times New Roman"/>
              </a:rPr>
              <a:t> kation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15360" y="5157720"/>
            <a:ext cx="272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K = [</a:t>
            </a:r>
            <a:r>
              <a:rPr b="0" lang="el-GR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α</a:t>
            </a:r>
            <a:r>
              <a:rPr b="0" lang="hu-HU" sz="2400" spc="-1" strike="noStrike" baseline="30000">
                <a:solidFill>
                  <a:srgbClr val="402000"/>
                </a:solidFill>
                <a:latin typeface="Times New Roman"/>
                <a:ea typeface="Times New Roman"/>
              </a:rPr>
              <a:t>2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/ (1-</a:t>
            </a:r>
            <a:r>
              <a:rPr b="0" lang="el-GR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α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)] </a:t>
            </a:r>
            <a:r>
              <a:rPr b="0" lang="hu-HU" sz="2400" spc="-1" strike="noStrike">
                <a:solidFill>
                  <a:srgbClr val="402000"/>
                </a:solidFill>
                <a:latin typeface="Symbol"/>
                <a:ea typeface="Symbol"/>
              </a:rPr>
              <a:t>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c*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59280" y="4941720"/>
            <a:ext cx="2736720" cy="935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116000" y="1773360"/>
            <a:ext cx="7343640" cy="26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Fajlagos vezetőképesség mérése 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402000"/>
                </a:solidFill>
                <a:latin typeface="Symbol"/>
                <a:ea typeface="Symbol"/>
              </a:rPr>
              <a:t></a:t>
            </a:r>
            <a:r>
              <a:rPr b="0" lang="hu-HU" sz="2800" spc="-1" strike="noStrike" baseline="-25000">
                <a:solidFill>
                  <a:srgbClr val="402000"/>
                </a:solidFill>
                <a:latin typeface="Times New Roman"/>
              </a:rPr>
              <a:t>minta</a:t>
            </a:r>
            <a:r>
              <a:rPr b="0" lang="hu-HU" sz="2800" spc="-1" strike="noStrike">
                <a:solidFill>
                  <a:srgbClr val="402000"/>
                </a:solidFill>
                <a:latin typeface="Times New Roman"/>
              </a:rPr>
              <a:t> = γ</a:t>
            </a:r>
            <a:r>
              <a:rPr b="0" lang="hu-HU" sz="2800" spc="-1" strike="noStrike" baseline="-25000">
                <a:solidFill>
                  <a:srgbClr val="402000"/>
                </a:solidFill>
                <a:latin typeface="Times New Roman"/>
              </a:rPr>
              <a:t>mért</a:t>
            </a:r>
            <a:r>
              <a:rPr b="0" lang="hu-HU" sz="2800" spc="-1" strike="noStrike">
                <a:solidFill>
                  <a:srgbClr val="402000"/>
                </a:solidFill>
                <a:latin typeface="Times New Roman"/>
              </a:rPr>
              <a:t> - γ </a:t>
            </a:r>
            <a:r>
              <a:rPr b="0" lang="hu-HU" sz="2800" spc="-1" strike="noStrike" baseline="-25000">
                <a:solidFill>
                  <a:srgbClr val="402000"/>
                </a:solidFill>
                <a:latin typeface="Times New Roman"/>
              </a:rPr>
              <a:t>H2O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baseline="-25000">
                <a:solidFill>
                  <a:srgbClr val="402000"/>
                </a:solidFill>
                <a:latin typeface="Times New Roman"/>
              </a:rPr>
              <a:t>Moláris vezetőképesség   </a:t>
            </a:r>
            <a:r>
              <a:rPr b="0" lang="hu-HU" sz="2800" spc="-1" strike="noStrike" baseline="-25000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800" spc="-1" strike="noStrike" baseline="-25000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800" spc="-1" strike="noStrike" baseline="-25000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hu-HU" sz="2800" spc="-1" strike="noStrike">
                <a:solidFill>
                  <a:srgbClr val="402000"/>
                </a:solidFill>
                <a:latin typeface="Symbol"/>
                <a:ea typeface="Symbol"/>
              </a:rPr>
              <a:t></a:t>
            </a:r>
            <a:r>
              <a:rPr b="0" lang="hu-HU" sz="2800" spc="-1" strike="noStrike" baseline="-25000">
                <a:solidFill>
                  <a:srgbClr val="402000"/>
                </a:solidFill>
                <a:latin typeface="Times New Roman"/>
              </a:rPr>
              <a:t>mol</a:t>
            </a:r>
            <a:r>
              <a:rPr b="0" lang="hu-HU" sz="2800" spc="-1" strike="noStrike">
                <a:solidFill>
                  <a:srgbClr val="402000"/>
                </a:solidFill>
                <a:latin typeface="Times New Roman"/>
              </a:rPr>
              <a:t> =  </a:t>
            </a:r>
            <a:r>
              <a:rPr b="0" lang="hu-HU" sz="2800" spc="-1" strike="noStrike">
                <a:solidFill>
                  <a:srgbClr val="402000"/>
                </a:solidFill>
                <a:latin typeface="Symbol"/>
                <a:ea typeface="Symbol"/>
              </a:rPr>
              <a:t></a:t>
            </a:r>
            <a:r>
              <a:rPr b="0" lang="hu-HU" sz="2800" spc="-1" strike="noStrike" baseline="-25000">
                <a:solidFill>
                  <a:srgbClr val="402000"/>
                </a:solidFill>
                <a:latin typeface="Times New Roman"/>
              </a:rPr>
              <a:t>minta</a:t>
            </a:r>
            <a:r>
              <a:rPr b="0" lang="hu-HU" sz="2800" spc="-1" strike="noStrike">
                <a:solidFill>
                  <a:srgbClr val="402000"/>
                </a:solidFill>
                <a:latin typeface="Times New Roman"/>
              </a:rPr>
              <a:t> / c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971640" y="530280"/>
            <a:ext cx="7848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402000"/>
                </a:solidFill>
                <a:latin typeface="Times New Roman"/>
              </a:rPr>
              <a:t>Demineralizált víz készítése – ioncserélő műgyantá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900000" y="1571760"/>
            <a:ext cx="77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Az 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ioncserélő műgyantá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 – 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térhálós szerkezetű makromolekulák kondenzációs (fenolok, aminok, poliamidok) vagy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polimerizációs (polisztirol, akrilátok) termékei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A gyantaváz belső felülete csatornahálózatot alkot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A szerves nagymolekula vázon (mátrix) találhatók a disszociációra, 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ionkicserélődésre hajlamos csoporto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3708360" y="3578400"/>
          <a:ext cx="511164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3578400"/>
                    <a:ext cx="511164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141560" y="1676520"/>
            <a:ext cx="48988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402000"/>
                </a:solidFill>
                <a:latin typeface="Times New Roman"/>
              </a:rPr>
              <a:t>Az ioncserélő műgyantákon lejátszódó folyamato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a.) duzzadás (hidratáció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b.) adszorpció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c.) ioncser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03280" y="620640"/>
            <a:ext cx="30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402000"/>
                </a:solidFill>
                <a:latin typeface="Times New Roman"/>
              </a:rPr>
              <a:t>Ioncserélő műgyanták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30760" y="4005360"/>
            <a:ext cx="34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402000"/>
                </a:solidFill>
                <a:latin typeface="Times New Roman"/>
              </a:rPr>
              <a:t>Az ionkötődési affinitás különböző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55680" y="4753080"/>
            <a:ext cx="331632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K</a:t>
            </a:r>
            <a:r>
              <a:rPr b="1" lang="hu-HU" sz="2000" spc="-1" strike="noStrike" baseline="30000">
                <a:solidFill>
                  <a:srgbClr val="402000"/>
                </a:solidFill>
                <a:latin typeface="Times New Roman"/>
              </a:rPr>
              <a:t>+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&lt; Mg</a:t>
            </a:r>
            <a:r>
              <a:rPr b="1" lang="hu-HU" sz="2000" spc="-1" strike="noStrike" baseline="30000">
                <a:solidFill>
                  <a:srgbClr val="402000"/>
                </a:solidFill>
                <a:latin typeface="Times New Roman"/>
              </a:rPr>
              <a:t>2+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&lt; Al</a:t>
            </a:r>
            <a:r>
              <a:rPr b="1" lang="hu-HU" sz="2000" spc="-1" strike="noStrike" baseline="30000">
                <a:solidFill>
                  <a:srgbClr val="402000"/>
                </a:solidFill>
                <a:latin typeface="Times New Roman"/>
              </a:rPr>
              <a:t>3+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Li</a:t>
            </a:r>
            <a:r>
              <a:rPr b="1" lang="hu-HU" sz="2000" spc="-1" strike="noStrike" baseline="30000">
                <a:solidFill>
                  <a:srgbClr val="402000"/>
                </a:solidFill>
                <a:latin typeface="Times New Roman"/>
              </a:rPr>
              <a:t>+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&lt; Na</a:t>
            </a:r>
            <a:r>
              <a:rPr b="1" lang="hu-HU" sz="2000" spc="-1" strike="noStrike" baseline="30000">
                <a:solidFill>
                  <a:srgbClr val="402000"/>
                </a:solidFill>
                <a:latin typeface="Times New Roman"/>
              </a:rPr>
              <a:t>+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&lt; Rb</a:t>
            </a:r>
            <a:r>
              <a:rPr b="1" lang="hu-HU" sz="2000" spc="-1" strike="noStrike" baseline="30000">
                <a:solidFill>
                  <a:srgbClr val="402000"/>
                </a:solidFill>
                <a:latin typeface="Times New Roman"/>
              </a:rPr>
              <a:t>+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&lt;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  <a:ea typeface="Times New Roman"/>
              </a:rPr>
              <a:t> 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Cs</a:t>
            </a:r>
            <a:r>
              <a:rPr b="1" lang="hu-HU" sz="2000" spc="-1" strike="noStrike" baseline="30000">
                <a:solidFill>
                  <a:srgbClr val="402000"/>
                </a:solidFill>
                <a:latin typeface="Times New Roman"/>
              </a:rPr>
              <a:t>+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Mg </a:t>
            </a:r>
            <a:r>
              <a:rPr b="1" lang="hu-HU" sz="2000" spc="-1" strike="noStrike" baseline="30000">
                <a:solidFill>
                  <a:srgbClr val="402000"/>
                </a:solidFill>
                <a:latin typeface="Times New Roman"/>
              </a:rPr>
              <a:t>2+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&lt; Ca</a:t>
            </a:r>
            <a:r>
              <a:rPr b="1" lang="hu-HU" sz="2000" spc="-1" strike="noStrike" baseline="30000">
                <a:solidFill>
                  <a:srgbClr val="402000"/>
                </a:solidFill>
                <a:latin typeface="Times New Roman"/>
              </a:rPr>
              <a:t>2+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&lt; Sr </a:t>
            </a:r>
            <a:r>
              <a:rPr b="1" lang="hu-HU" sz="2000" spc="-1" strike="noStrike" baseline="30000">
                <a:solidFill>
                  <a:srgbClr val="402000"/>
                </a:solidFill>
                <a:latin typeface="Times New Roman"/>
              </a:rPr>
              <a:t>2+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&lt; Ba</a:t>
            </a:r>
            <a:r>
              <a:rPr b="1" lang="hu-HU" sz="2000" spc="-1" strike="noStrike" baseline="30000">
                <a:solidFill>
                  <a:srgbClr val="402000"/>
                </a:solidFill>
                <a:latin typeface="Times New Roman"/>
              </a:rPr>
              <a:t>2+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F </a:t>
            </a:r>
            <a:r>
              <a:rPr b="1" lang="hu-HU" sz="2000" spc="-1" strike="noStrike" baseline="30000">
                <a:solidFill>
                  <a:srgbClr val="402000"/>
                </a:solidFill>
                <a:latin typeface="Times New Roman"/>
              </a:rPr>
              <a:t>-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&lt; Cl </a:t>
            </a:r>
            <a:r>
              <a:rPr b="1" lang="hu-HU" sz="2000" spc="-1" strike="noStrike" baseline="30000">
                <a:solidFill>
                  <a:srgbClr val="402000"/>
                </a:solidFill>
                <a:latin typeface="Times New Roman"/>
              </a:rPr>
              <a:t>-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&lt; Br </a:t>
            </a:r>
            <a:r>
              <a:rPr b="1" lang="hu-HU" sz="2000" spc="-1" strike="noStrike" baseline="30000">
                <a:solidFill>
                  <a:srgbClr val="402000"/>
                </a:solidFill>
                <a:latin typeface="Times New Roman"/>
              </a:rPr>
              <a:t>-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 &lt; I</a:t>
            </a:r>
            <a:r>
              <a:rPr b="1" lang="hu-HU" sz="2000" spc="-1" strike="noStrike" baseline="30000">
                <a:solidFill>
                  <a:srgbClr val="402000"/>
                </a:solidFill>
                <a:latin typeface="Times New Roman"/>
              </a:rPr>
              <a:t>-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5724360" y="2060640"/>
          <a:ext cx="3086280" cy="439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360" y="2060640"/>
                    <a:ext cx="3086280" cy="439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7" name=""/>
          <p:cNvSpPr/>
          <p:nvPr/>
        </p:nvSpPr>
        <p:spPr>
          <a:xfrm>
            <a:off x="6659640" y="4581360"/>
            <a:ext cx="0" cy="1429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133360" y="457200"/>
            <a:ext cx="60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A sótalanító berendezések működési elvük alapján lehetnek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a.)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 sorba kapcsolt vagy lépcsős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b.) 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kevertágyas berendezése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900000" y="1773360"/>
          <a:ext cx="4191120" cy="293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73360"/>
                    <a:ext cx="4191120" cy="293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"/>
          <p:cNvGraphicFramePr/>
          <p:nvPr/>
        </p:nvGraphicFramePr>
        <p:xfrm>
          <a:off x="5435640" y="1628640"/>
          <a:ext cx="3362400" cy="3146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1628640"/>
                    <a:ext cx="3362400" cy="31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1617840" y="4869000"/>
            <a:ext cx="26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a., sorba kapcsolt (lépcsős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722200" y="4941720"/>
            <a:ext cx="28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b., kevertágyas berendezése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206440" y="5638680"/>
            <a:ext cx="404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A víz iontartalmának ellenőrzése: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titrimetri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vezetőképesség mérése (konduktométer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760" y="549360"/>
            <a:ext cx="557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402000"/>
                </a:solidFill>
                <a:latin typeface="Times New Roman"/>
              </a:rPr>
              <a:t>Az ioncserélő műgyanták főbb paraméterei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4211640" y="1773360"/>
                <a:ext cx="187308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"/>
              <p:cNvSpPr txBox="1"/>
              <p:nvPr/>
            </p:nvSpPr>
            <p:spPr>
              <a:xfrm>
                <a:off x="4211640" y="2987640"/>
                <a:ext cx="165564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"/>
          <p:cNvSpPr/>
          <p:nvPr/>
        </p:nvSpPr>
        <p:spPr>
          <a:xfrm>
            <a:off x="963360" y="1773360"/>
            <a:ext cx="33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Áttörési kapacitás (mmol/l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036440" y="3032280"/>
            <a:ext cx="31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402000"/>
                </a:solidFill>
                <a:latin typeface="Times New Roman"/>
              </a:rPr>
              <a:t>Teljes  kapacitás (mmol/l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042920" y="4365720"/>
            <a:ext cx="280836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V</a:t>
            </a:r>
            <a:r>
              <a:rPr b="1" lang="hu-HU" sz="1800" spc="-1" strike="noStrike" baseline="-25000">
                <a:solidFill>
                  <a:srgbClr val="402000"/>
                </a:solidFill>
                <a:latin typeface="Times New Roman"/>
              </a:rPr>
              <a:t>1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 = az ellenion áttöréséig lecsepegett oldat térfogata (l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1" lang="hu-HU" sz="1800" spc="-1" strike="noStrike" baseline="-25000">
                <a:solidFill>
                  <a:srgbClr val="402000"/>
                </a:solidFill>
                <a:latin typeface="Times New Roman"/>
              </a:rPr>
              <a:t>o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= a tápoldat ionkoncentrációja (mmol/l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X</a:t>
            </a:r>
            <a:r>
              <a:rPr b="0" lang="hu-HU" sz="1800" spc="-1" strike="noStrike">
                <a:solidFill>
                  <a:srgbClr val="402000"/>
                </a:solidFill>
                <a:latin typeface="Times New Roman"/>
              </a:rPr>
              <a:t> = a gyantaoszlop térfogata (l)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1187280" y="3429000"/>
                <a:ext cx="165600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93" name=""/>
          <p:cNvGraphicFramePr/>
          <p:nvPr/>
        </p:nvGraphicFramePr>
        <p:xfrm>
          <a:off x="6372360" y="1052640"/>
          <a:ext cx="2447640" cy="270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1052640"/>
                    <a:ext cx="2447640" cy="27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"/>
          <p:cNvGrpSpPr/>
          <p:nvPr/>
        </p:nvGrpSpPr>
        <p:grpSpPr>
          <a:xfrm>
            <a:off x="4143240" y="3860640"/>
            <a:ext cx="4513680" cy="2780640"/>
            <a:chOff x="4143240" y="3860640"/>
            <a:chExt cx="4513680" cy="2780640"/>
          </a:xfrm>
        </p:grpSpPr>
        <p:grpSp>
          <p:nvGrpSpPr>
            <p:cNvPr id="296" name=""/>
            <p:cNvGrpSpPr/>
            <p:nvPr/>
          </p:nvGrpSpPr>
          <p:grpSpPr>
            <a:xfrm>
              <a:off x="4613040" y="3860640"/>
              <a:ext cx="3097080" cy="2421000"/>
              <a:chOff x="4613040" y="3860640"/>
              <a:chExt cx="3097080" cy="2421000"/>
            </a:xfrm>
          </p:grpSpPr>
          <p:sp>
            <p:nvSpPr>
              <p:cNvPr id="297" name=""/>
              <p:cNvSpPr/>
              <p:nvPr/>
            </p:nvSpPr>
            <p:spPr>
              <a:xfrm>
                <a:off x="4613040" y="3860640"/>
                <a:ext cx="3095640" cy="2421000"/>
              </a:xfrm>
              <a:prstGeom prst="rect">
                <a:avLst/>
              </a:prstGeom>
              <a:noFill/>
              <a:ln w="9360">
                <a:solidFill>
                  <a:srgbClr val="402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613040" y="4425840"/>
                <a:ext cx="3097080" cy="1811520"/>
              </a:xfrm>
              <a:custGeom>
                <a:avLst/>
                <a:gdLst/>
                <a:ahLst/>
                <a:rect l="l" t="t" r="r" b="b"/>
                <a:pathLst>
                  <a:path w="1951" h="1141">
                    <a:moveTo>
                      <a:pt x="0" y="1141"/>
                    </a:moveTo>
                    <a:cubicBezTo>
                      <a:pt x="79" y="978"/>
                      <a:pt x="159" y="816"/>
                      <a:pt x="227" y="642"/>
                    </a:cubicBezTo>
                    <a:cubicBezTo>
                      <a:pt x="295" y="468"/>
                      <a:pt x="341" y="189"/>
                      <a:pt x="409" y="98"/>
                    </a:cubicBezTo>
                    <a:cubicBezTo>
                      <a:pt x="477" y="7"/>
                      <a:pt x="545" y="0"/>
                      <a:pt x="635" y="98"/>
                    </a:cubicBezTo>
                    <a:cubicBezTo>
                      <a:pt x="725" y="196"/>
                      <a:pt x="840" y="544"/>
                      <a:pt x="953" y="687"/>
                    </a:cubicBezTo>
                    <a:cubicBezTo>
                      <a:pt x="1066" y="830"/>
                      <a:pt x="1172" y="891"/>
                      <a:pt x="1316" y="959"/>
                    </a:cubicBezTo>
                    <a:cubicBezTo>
                      <a:pt x="1460" y="1027"/>
                      <a:pt x="1709" y="1065"/>
                      <a:pt x="1815" y="1095"/>
                    </a:cubicBezTo>
                    <a:cubicBezTo>
                      <a:pt x="1921" y="1125"/>
                      <a:pt x="1936" y="1133"/>
                      <a:pt x="1951" y="1141"/>
                    </a:cubicBezTo>
                  </a:path>
                </a:pathLst>
              </a:custGeom>
              <a:noFill/>
              <a:ln w="9360">
                <a:solidFill>
                  <a:srgbClr val="402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613040" y="3860640"/>
                <a:ext cx="0" cy="237672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13040" y="6280200"/>
                <a:ext cx="3097080" cy="0"/>
              </a:xfrm>
              <a:prstGeom prst="line">
                <a:avLst/>
              </a:prstGeom>
              <a:ln w="9360">
                <a:solidFill>
                  <a:srgbClr val="402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2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 rot="16200000">
              <a:off x="3282120" y="4810680"/>
              <a:ext cx="199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200" spc="-1" strike="noStrike">
                  <a:solidFill>
                    <a:srgbClr val="402000"/>
                  </a:solidFill>
                  <a:latin typeface="Times New Roman"/>
                </a:rPr>
                <a:t>Titráláshoz fogyott mérőoldat</a:t>
              </a:r>
              <a:endParaRPr b="0" lang="en-US" sz="12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858800" y="5991120"/>
              <a:ext cx="79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402000"/>
                  </a:solidFill>
                  <a:latin typeface="Times New Roman"/>
                </a:rPr>
                <a:t>V (ml)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104440" y="6235560"/>
              <a:ext cx="86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402000"/>
                  </a:solidFill>
                  <a:latin typeface="Times New Roman"/>
                </a:rPr>
                <a:t>V</a:t>
              </a:r>
              <a:r>
                <a:rPr b="0" lang="hu-HU" sz="1800" spc="-1" strike="noStrike" baseline="-25000">
                  <a:solidFill>
                    <a:srgbClr val="402000"/>
                  </a:solidFill>
                  <a:latin typeface="Times New Roman"/>
                </a:rPr>
                <a:t>1</a:t>
              </a:r>
              <a:r>
                <a:rPr b="0" lang="hu-HU" sz="1800" spc="-1" strike="noStrike">
                  <a:solidFill>
                    <a:srgbClr val="402000"/>
                  </a:solidFill>
                  <a:latin typeface="Times New Roman"/>
                </a:rPr>
                <a:t> (ml)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249320" y="6218280"/>
              <a:ext cx="86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402000"/>
                  </a:solidFill>
                  <a:latin typeface="Times New Roman"/>
                </a:rPr>
                <a:t>V</a:t>
              </a:r>
              <a:r>
                <a:rPr b="0" lang="hu-HU" sz="1800" spc="-1" strike="noStrike" baseline="-25000">
                  <a:solidFill>
                    <a:srgbClr val="402000"/>
                  </a:solidFill>
                  <a:latin typeface="Times New Roman"/>
                </a:rPr>
                <a:t>3</a:t>
              </a:r>
              <a:r>
                <a:rPr b="0" lang="hu-HU" sz="1800" spc="-1" strike="noStrike">
                  <a:solidFill>
                    <a:srgbClr val="402000"/>
                  </a:solidFill>
                  <a:latin typeface="Times New Roman"/>
                </a:rPr>
                <a:t> (ml)</a:t>
              </a:r>
              <a:endParaRPr b="0" lang="en-US" sz="18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8960" y="2057400"/>
            <a:ext cx="522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02000"/>
                </a:solidFill>
                <a:latin typeface="Times New Roman"/>
              </a:rPr>
              <a:t>I. félév/ I. negyedév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előkészít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5 gyakorl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ZH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71080" y="574560"/>
            <a:ext cx="19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02000"/>
                </a:solidFill>
                <a:latin typeface="Times New Roman"/>
              </a:rPr>
              <a:t>Tematika II.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6200" y="3716280"/>
            <a:ext cx="602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02000"/>
                </a:solidFill>
                <a:latin typeface="Times New Roman"/>
              </a:rPr>
              <a:t>I. félév/ II. negyedév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előkészítő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5 gyakorl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pótgyakorlat/ ZH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53880" y="5877000"/>
            <a:ext cx="43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Hiányzás: max. 2 gyakorlat/ félév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709080" y="62064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02000"/>
                </a:solidFill>
                <a:latin typeface="Times New Roman"/>
              </a:rPr>
              <a:t>Gyakorlato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06064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A gyakorlat rövid elméleti áttekintése, pontos menete, készülékek bemutatása, számolások megbeszélé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Gyakorlat elvégzés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Jegyzőkönyv elkészítése: számolás, grafikus ábrázolá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Értékelé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852360" y="6922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402000"/>
                </a:solidFill>
                <a:latin typeface="Times New Roman"/>
              </a:rPr>
              <a:t>Számonkérése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187280" y="1700280"/>
            <a:ext cx="629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I. félév/ I. negyed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Zh dolgoza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185120" y="2205000"/>
            <a:ext cx="75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I. félév/I. és II. negyed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évfolyam Zh dolgoza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6000" y="2997360"/>
            <a:ext cx="46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402000"/>
                </a:solidFill>
                <a:latin typeface="Times New Roman"/>
              </a:rPr>
              <a:t>MAX. 1 javítási lehetőség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039760" y="4005360"/>
            <a:ext cx="6066000" cy="2399760"/>
            <a:chOff x="2039760" y="4005360"/>
            <a:chExt cx="6066000" cy="2399760"/>
          </a:xfrm>
        </p:grpSpPr>
        <p:sp>
          <p:nvSpPr>
            <p:cNvPr id="111" name=""/>
            <p:cNvSpPr/>
            <p:nvPr/>
          </p:nvSpPr>
          <p:spPr>
            <a:xfrm>
              <a:off x="3376440" y="4005360"/>
              <a:ext cx="154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 u="sng">
                  <a:solidFill>
                    <a:srgbClr val="402000"/>
                  </a:solidFill>
                  <a:uFillTx/>
                  <a:latin typeface="Times New Roman"/>
                </a:rPr>
                <a:t>Zh anyaga</a:t>
              </a:r>
              <a:r>
                <a:rPr b="0" lang="hu-HU" sz="2400" spc="-1" strike="noStrike">
                  <a:solidFill>
                    <a:srgbClr val="402000"/>
                  </a:solidFill>
                  <a:latin typeface="Times New Roman"/>
                </a:rPr>
                <a:t>: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39760" y="4848120"/>
              <a:ext cx="6066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buClr>
                  <a:srgbClr val="402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lang="hu-HU" sz="2400" spc="-1" strike="noStrike">
                  <a:solidFill>
                    <a:srgbClr val="402000"/>
                  </a:solidFill>
                  <a:latin typeface="Times New Roman"/>
                </a:rPr>
                <a:t>jegyzet témát feldolgozó rész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buClr>
                  <a:srgbClr val="402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lang="hu-HU" sz="2400" spc="-1" strike="noStrike">
                  <a:solidFill>
                    <a:srgbClr val="402000"/>
                  </a:solidFill>
                  <a:latin typeface="Times New Roman"/>
                </a:rPr>
                <a:t>előkészítő anyag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buClr>
                  <a:srgbClr val="402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lang="hu-HU" sz="2400" spc="-1" strike="noStrike">
                  <a:solidFill>
                    <a:srgbClr val="402000"/>
                  </a:solidFill>
                  <a:latin typeface="Times New Roman"/>
                </a:rPr>
                <a:t>grafikonok értelmezés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  <a:p>
              <a:pPr>
                <a:buClr>
                  <a:srgbClr val="402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402000"/>
                  </a:solidFill>
                  <a:latin typeface="Times New Roman"/>
                </a:rPr>
                <a:t> </a:t>
              </a:r>
              <a:r>
                <a:rPr b="0" lang="hu-HU" sz="2400" spc="-1" strike="noStrike">
                  <a:solidFill>
                    <a:srgbClr val="402000"/>
                  </a:solidFill>
                  <a:latin typeface="Times New Roman"/>
                </a:rPr>
                <a:t>fizikai paraméterek számolása fiktív adatokkal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27960" y="519120"/>
            <a:ext cx="48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Times New Roman"/>
              </a:rPr>
              <a:t>Gyakorlatok I. félév / I. negye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2000"/>
                </a:solidFill>
                <a:latin typeface="Times New Roman"/>
              </a:rPr>
              <a:t>Oldatos gyógyszerfo</a:t>
            </a:r>
            <a:r>
              <a:rPr b="1" lang="hu-HU" sz="2400" spc="-1" strike="noStrike">
                <a:solidFill>
                  <a:srgbClr val="402000"/>
                </a:solidFill>
                <a:latin typeface="Times New Roman"/>
              </a:rPr>
              <a:t>r</a:t>
            </a:r>
            <a:r>
              <a:rPr b="1" lang="en-GB" sz="2400" spc="-1" strike="noStrike">
                <a:solidFill>
                  <a:srgbClr val="402000"/>
                </a:solidFill>
                <a:latin typeface="Times New Roman"/>
              </a:rPr>
              <a:t>mák vizsgálat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201312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1. Asztal</a:t>
            </a: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: </a:t>
            </a:r>
            <a:r>
              <a:rPr b="1" lang="en-GB" sz="1800" spc="-1" strike="noStrike">
                <a:solidFill>
                  <a:srgbClr val="402000"/>
                </a:solidFill>
                <a:latin typeface="Times New Roman"/>
              </a:rPr>
              <a:t>Víztisztítás a gyógyszerészetben. Ioncserélt víz előállítás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Anioncse</a:t>
            </a:r>
            <a:r>
              <a:rPr b="0" i="1" lang="hu-HU" sz="1800" spc="-1" strike="noStrike">
                <a:solidFill>
                  <a:srgbClr val="402000"/>
                </a:solidFill>
                <a:latin typeface="Times New Roman"/>
              </a:rPr>
              <a:t>r</a:t>
            </a: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élő műgyanta áttörési</a:t>
            </a:r>
            <a:r>
              <a:rPr b="0" i="1" lang="hu-HU" sz="1800" spc="-1" strike="noStrike">
                <a:solidFill>
                  <a:srgbClr val="402000"/>
                </a:solidFill>
                <a:latin typeface="Times New Roman"/>
              </a:rPr>
              <a:t>-</a:t>
            </a: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 és teljes kapacitásának vizsgálat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2. Asztal: </a:t>
            </a:r>
            <a:r>
              <a:rPr b="1" lang="en-GB" sz="1800" spc="-1" strike="noStrike">
                <a:solidFill>
                  <a:srgbClr val="402000"/>
                </a:solidFill>
                <a:latin typeface="Times New Roman"/>
              </a:rPr>
              <a:t>Farmakonok disszociációs állandójának (pK)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en-GB" sz="1800" spc="-1" strike="noStrike">
                <a:solidFill>
                  <a:srgbClr val="402000"/>
                </a:solidFill>
                <a:latin typeface="Times New Roman"/>
              </a:rPr>
              <a:t>meghatározása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3. Asztal: </a:t>
            </a:r>
            <a:r>
              <a:rPr b="1" lang="en-GB" sz="1800" spc="-1" strike="noStrike">
                <a:solidFill>
                  <a:srgbClr val="402000"/>
                </a:solidFill>
                <a:latin typeface="Times New Roman"/>
              </a:rPr>
              <a:t>Farmakonok oldékonyságának pH</a:t>
            </a: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-</a:t>
            </a:r>
            <a:r>
              <a:rPr b="1" lang="en-GB" sz="1800" spc="-1" strike="noStrike">
                <a:solidFill>
                  <a:srgbClr val="402000"/>
                </a:solidFill>
                <a:latin typeface="Times New Roman"/>
              </a:rPr>
              <a:t>függése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402000"/>
                </a:solidFill>
                <a:latin typeface="Times New Roman"/>
              </a:rPr>
              <a:t>4</a:t>
            </a: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. Asztal: </a:t>
            </a:r>
            <a:r>
              <a:rPr b="1" lang="en-GB" sz="1800" spc="-1" strike="noStrike">
                <a:solidFill>
                  <a:srgbClr val="402000"/>
                </a:solidFill>
                <a:latin typeface="Times New Roman"/>
              </a:rPr>
              <a:t>Farmakonok oldékonyságának elősegítése segédanyagokka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1.</a:t>
            </a:r>
            <a:r>
              <a:rPr b="1" lang="en-GB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Hidrotróp oldásközvetítés vizsgálata</a:t>
            </a: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2. Illóolajok szolubilizációja Tween</a:t>
            </a:r>
            <a:r>
              <a:rPr b="0" i="1" lang="hu-HU" sz="1800" spc="-1" strike="noStrike">
                <a:solidFill>
                  <a:srgbClr val="402000"/>
                </a:solidFill>
                <a:latin typeface="Times New Roman"/>
              </a:rPr>
              <a:t>-</a:t>
            </a: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féleségekke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402000"/>
                </a:solidFill>
                <a:latin typeface="Times New Roman"/>
              </a:rPr>
              <a:t>5. Asztal: </a:t>
            </a:r>
            <a:r>
              <a:rPr b="1" lang="en-GB" sz="1800" spc="-1" strike="noStrike">
                <a:solidFill>
                  <a:srgbClr val="402000"/>
                </a:solidFill>
                <a:latin typeface="Times New Roman"/>
              </a:rPr>
              <a:t>Farmakonok oldékonyságának függése a közeg permittivitásától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Szalicilsav oldékonyságának növelése az oldószer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i="1" lang="en-GB" sz="1800" spc="-1" strike="noStrike">
                <a:solidFill>
                  <a:srgbClr val="402000"/>
                </a:solidFill>
                <a:latin typeface="Times New Roman"/>
              </a:rPr>
              <a:t>permittivitásának változtatásával</a:t>
            </a:r>
            <a:r>
              <a:rPr b="0" lang="en-GB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 flipH="1">
            <a:off x="6324480" y="3657600"/>
            <a:ext cx="457200" cy="1828800"/>
          </a:xfrm>
          <a:custGeom>
            <a:avLst/>
            <a:gdLst/>
            <a:ahLst/>
            <a:rect l="l" t="t" r="r" b="b"/>
            <a:pathLst>
              <a:path w="384" h="1152">
                <a:moveTo>
                  <a:pt x="384" y="0"/>
                </a:moveTo>
                <a:lnTo>
                  <a:pt x="384" y="1152"/>
                </a:lnTo>
                <a:lnTo>
                  <a:pt x="0" y="1152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6324480" y="1600200"/>
            <a:ext cx="457200" cy="205740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384" y="0"/>
                </a:moveTo>
                <a:lnTo>
                  <a:pt x="384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26280" y="1600200"/>
            <a:ext cx="2044440" cy="10674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Valódi oldatok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részecskeméret &lt; 1 nm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Nem ülepedik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Ionok, kis molekulák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87520" y="1600200"/>
            <a:ext cx="2378160" cy="109836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Kolloid oldato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Részecskeméret: 1-500 nm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Nem ülepedik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makromolekulák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35640" y="1576440"/>
            <a:ext cx="2198520" cy="109836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Durva diszperz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részecskeméret &gt;500 nm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Ülepedik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molekula halmazok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95480" y="3200400"/>
            <a:ext cx="1905120" cy="109836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Szolok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nem térhálós szerkezetű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folyik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95480" y="4800600"/>
            <a:ext cx="1905120" cy="106740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Gélek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térhálós szerkezetű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csak erő behatásra kezd folyni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3276720"/>
            <a:ext cx="1905120" cy="131076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Emulziók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diszperziós közeg folyékony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diszpergált rész folyékony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0" y="4952880"/>
            <a:ext cx="1905120" cy="1310760"/>
          </a:xfrm>
          <a:prstGeom prst="rect">
            <a:avLst/>
          </a:prstGeom>
          <a:solidFill>
            <a:srgbClr val="fbfae2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402000"/>
                </a:solidFill>
                <a:latin typeface="Times New Roman"/>
              </a:rPr>
              <a:t>Szuszpenzió</a:t>
            </a:r>
            <a:r>
              <a:rPr b="0" lang="hu-HU" sz="1600" spc="-1" strike="noStrike">
                <a:solidFill>
                  <a:srgbClr val="fbfae2"/>
                </a:solidFill>
                <a:latin typeface="Times New Roman"/>
              </a:rPr>
              <a:t>k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diszperziós közeg folyékony,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402000"/>
                </a:solidFill>
                <a:latin typeface="Times New Roman"/>
              </a:rPr>
              <a:t>diszpergált rész szilárd</a:t>
            </a:r>
            <a:endParaRPr b="0" lang="en-US" sz="1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2743200"/>
            <a:ext cx="609480" cy="990720"/>
          </a:xfrm>
          <a:custGeom>
            <a:avLst/>
            <a:gdLst/>
            <a:ahLst/>
            <a:rect l="l" t="t" r="r" b="b"/>
            <a:pathLst>
              <a:path w="384" h="480">
                <a:moveTo>
                  <a:pt x="384" y="0"/>
                </a:moveTo>
                <a:lnTo>
                  <a:pt x="384" y="480"/>
                </a:lnTo>
                <a:lnTo>
                  <a:pt x="0" y="480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800600" y="3276720"/>
            <a:ext cx="609480" cy="1828800"/>
          </a:xfrm>
          <a:custGeom>
            <a:avLst/>
            <a:gdLst/>
            <a:ahLst/>
            <a:rect l="l" t="t" r="r" b="b"/>
            <a:pathLst>
              <a:path w="384" h="1152">
                <a:moveTo>
                  <a:pt x="384" y="0"/>
                </a:moveTo>
                <a:lnTo>
                  <a:pt x="384" y="1152"/>
                </a:lnTo>
                <a:lnTo>
                  <a:pt x="0" y="1152"/>
                </a:lnTo>
              </a:path>
            </a:pathLst>
          </a:custGeom>
          <a:noFill/>
          <a:ln w="9360">
            <a:solidFill>
              <a:srgbClr val="402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76360" y="60660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cc0000"/>
                </a:solidFill>
                <a:latin typeface="Times New Roman"/>
              </a:rPr>
              <a:t>Folyékony gyógyszerformák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982080" y="1822320"/>
            <a:ext cx="775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oldószerek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bevételre szánt cseppe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gyógyszeres törzsoldatok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szemcseppek, szemvize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bevételre szánt vizes oldatok 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orrcseppe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külső használatra szánt oldatok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fülcseppe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buClr>
                <a:srgbClr val="402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szirupok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bevételre szánt emulzió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aromás vizek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külső használatra szánt emulzió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alkoholos oldatok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bevételre szánt szuszpenzió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olajos oldatok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külső használatra szánt szuszpenzió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nyákok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klizmák</a:t>
            </a: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injekció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402000"/>
                </a:solidFill>
                <a:latin typeface="Times New Roman"/>
              </a:rPr>
              <a:t>- infúziók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7880" y="609480"/>
            <a:ext cx="39513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hu-HU" sz="24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lang="hu-HU" sz="24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hu-HU" sz="2400" spc="-1" strike="noStrike">
                <a:solidFill>
                  <a:srgbClr val="cc0000"/>
                </a:solidFill>
                <a:latin typeface="Times New Roman"/>
              </a:rPr>
              <a:t>folyékony gyógyszerformá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43000" y="4651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11:43:37Z</dcterms:created>
  <dc:creator>csogab</dc:creator>
  <dc:description/>
  <dc:language>en-US</dc:language>
  <cp:lastModifiedBy>Dr. Budai Lívia</cp:lastModifiedBy>
  <dcterms:modified xsi:type="dcterms:W3CDTF">2012-09-10T09:10:17Z</dcterms:modified>
  <cp:revision>222</cp:revision>
  <dc:subject/>
  <dc:title>Nincs diacím</dc:title>
</cp:coreProperties>
</file>